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4DE1-3E59-453B-ABE2-E62FE7C4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AB9F-30C2-40C3-A4E6-CCAE8E37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C30B-2A90-4721-AD04-8DAF70C0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30C-E481-4A2D-A4E8-A327F3CB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86A-1CDF-47DE-BDA3-291A924C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3936-4A58-4392-8F32-E3AD8382C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B64-EFA2-46C7-87F0-CF9FB59F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E0C-A8DA-4BA7-B333-895C2D5E7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9C96-069C-4E0F-BAE4-BEC144A9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E5D6-8CCE-446D-A80C-A52823DA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C7DC-8F45-4039-A350-2B525AB57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CF22-A1DF-40B4-A929-F11AFDFD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E038-C82F-4B65-A54D-0D7FBF17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38D-BB4E-4D5C-ACDF-28B6856C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C9B5-B29B-449D-9F1F-A5C6151D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4465-881B-492F-81A9-0A5EF56D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61EC-3E32-47EE-8D08-2A5D24A6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834-FD8B-4F20-A99D-78F973DD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F61-A91D-4D9B-AD1F-782AECEB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F0B-4A4D-4780-B860-B8A6EBF3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AFA-805A-49FD-BE3E-F2491550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9C7-4CA2-4E7D-AC3A-46199C0E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5991-F26F-410E-9664-006B7718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679-B735-477A-BF57-4A956371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76E0-3FE3-4C94-B71C-96269C0E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627-E676-40E2-99A8-CFDE0C24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981B-29C0-4408-BCD9-D8EB64F5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C88-5572-428D-911D-A2015A5B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855E-1778-448C-8310-85067311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1D4-A8D6-417D-81B2-195CBC6A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9CCC-70B9-4E73-891F-523302E2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FEE-9762-4DA7-903D-E7D3E6AF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ink will demonstrate how human karyotypes are made.  In addition, it will emphasize the potential differences in the sex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C8D-CC2D-4D33-A3A6-4073F7AC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733-153E-4C5E-A21F-610B4B5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BB2-3A77-4B25-9AE2-CED0C083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A23-798B-47E8-BBF0-E625306F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ADF-9142-44E5-B38B-4F87D180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251-EE51-43C8-ABDF-847AC7BF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34E-F6C6-4C32-ADC4-326C2C8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B35-12FB-408C-89A2-78869A1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EF-135F-4D2B-BD84-3AB3700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AC5-5125-4613-8603-E829196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8CC-6BE4-430E-B856-46A5D4C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6BA-CEF4-4B78-AC26-271DD92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B51-F9C4-4D00-B98E-0192F79C0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C1D-EA9E-4DA6-A60C-0F250AC9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bbc.co.uk/2/hi/world/south_asia/6188775.s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08B-F186-4E5C-B0AB-FA95673D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reamstime_244661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oss-Dressing or Crossing-Over: Sex Testing of Women Athl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ureen Knabb, Department of Biology, West Chester University, and Joan Sharp, Biological Sciences, Simon Fraser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210-29A0-4A33-B1EB-7DC995259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2: A karyotype was performed on an athlete.  Here are the results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5105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se results, the athlet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Ma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uman_male_karyotpe_high_resolution"/>
          <p:cNvPicPr/>
          <p:nvPr/>
        </p:nvPicPr>
        <p:blipFill>
          <a:blip r:embed="rId1"/>
          <a:stretch/>
        </p:blipFill>
        <p:spPr>
          <a:xfrm>
            <a:off x="2057400" y="1344600"/>
            <a:ext cx="480060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DC3-5FD8-420E-8038-C259C500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3: So if Santhi is a normal female, her karyotype would b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X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ropped"/>
          <p:cNvPicPr/>
          <p:nvPr/>
        </p:nvPicPr>
        <p:blipFill>
          <a:blip r:embed="rId1"/>
          <a:stretch/>
        </p:blipFill>
        <p:spPr>
          <a:xfrm>
            <a:off x="5943600" y="914400"/>
            <a:ext cx="2208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711-F4BC-4EE7-B4E5-8593E760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EX</a:t>
            </a:r>
            <a:br>
              <a:rPr sz="66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I have your attention now?)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3E13-4EA3-4FC8-9A19-E070169E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te of Genetic Materi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ing Sexual Re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ntain genetic material from both your Mom and 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46 chromosomes, and so do (will) your childr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courses.bio.psu.edu/fall2005/biol110/tutorials/tutorial2_files/fig_13_3.jpg"/>
          <p:cNvPicPr/>
          <p:nvPr/>
        </p:nvPicPr>
        <p:blipFill>
          <a:blip r:embed="rId1"/>
          <a:stretch/>
        </p:blipFill>
        <p:spPr>
          <a:xfrm>
            <a:off x="3429000" y="1676520"/>
            <a:ext cx="5213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02B-EB16-41D2-966E-1A6201E3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46 chromosomes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n = diploi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23 chromosomes           Sp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n = haploid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chromosomes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838080" y="1752480"/>
            <a:ext cx="228600" cy="1067040"/>
          </a:xfrm>
          <a:prstGeom prst="downArrow">
            <a:avLst>
              <a:gd name="adj1" fmla="val 50000"/>
              <a:gd name="adj2" fmla="val 1125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696080" y="1752480"/>
            <a:ext cx="228600" cy="1067040"/>
          </a:xfrm>
          <a:prstGeom prst="downArrow">
            <a:avLst>
              <a:gd name="adj1" fmla="val 50000"/>
              <a:gd name="adj2" fmla="val 1125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219320" y="3886200"/>
            <a:ext cx="2438280" cy="1447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5181480" y="3886200"/>
            <a:ext cx="2362320" cy="1523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2E2-959A-44FA-B743-FF8F032E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ploid and Diploid 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1676520" y="1752480"/>
            <a:ext cx="30456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1600200" y="251460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752480" y="22860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952160" y="403848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oid with two chromat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5791320" y="1905120"/>
            <a:ext cx="304560" cy="60948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525780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678168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133720" y="4495680"/>
            <a:ext cx="30456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91440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6172200" y="190512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 rot="20991000">
            <a:off x="6067080" y="253836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 rot="1191000">
            <a:off x="5567040" y="254016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56480" y="403848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oid with one chroma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1"/>
          <p:cNvSpPr/>
          <p:nvPr/>
        </p:nvSpPr>
        <p:spPr>
          <a:xfrm>
            <a:off x="838080" y="510552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2"/>
          <p:cNvSpPr/>
          <p:nvPr/>
        </p:nvSpPr>
        <p:spPr>
          <a:xfrm>
            <a:off x="2057400" y="510552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990720" y="5029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61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id with one chroma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6"/>
          <p:cNvSpPr/>
          <p:nvPr/>
        </p:nvSpPr>
        <p:spPr>
          <a:xfrm>
            <a:off x="7086600" y="449568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"/>
          <p:cNvSpPr/>
          <p:nvPr/>
        </p:nvSpPr>
        <p:spPr>
          <a:xfrm>
            <a:off x="5562720" y="441972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8"/>
          <p:cNvSpPr/>
          <p:nvPr/>
        </p:nvSpPr>
        <p:spPr>
          <a:xfrm rot="1191000">
            <a:off x="6557760" y="5054760"/>
            <a:ext cx="40608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 rot="1191000">
            <a:off x="5033520" y="497844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0"/>
          <p:cNvSpPr/>
          <p:nvPr/>
        </p:nvSpPr>
        <p:spPr>
          <a:xfrm rot="20631600">
            <a:off x="5533560" y="505260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1"/>
          <p:cNvSpPr/>
          <p:nvPr/>
        </p:nvSpPr>
        <p:spPr>
          <a:xfrm rot="20592600">
            <a:off x="7057800" y="505296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2"/>
          <p:cNvSpPr/>
          <p:nvPr/>
        </p:nvSpPr>
        <p:spPr>
          <a:xfrm>
            <a:off x="6934320" y="49528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5410080" y="49528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1804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id with two chromat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51A-3884-47DE-ADDC-10472267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Q4: Assume that this is one of Santhi’s chromosomes.  This chromosome is composed of two chromatids joined by a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160" y="16765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These chromatids make up a diploid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The cell that contains these sister chromatids must be dip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The sister chromatids were formed by replicating a single chromat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The sister chromatids were joined by fertilization, bringing together a maternal and paternal chromat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http://www.mrothery.co.uk/module2/images/Image213.gif"/>
          <p:cNvPicPr/>
          <p:nvPr/>
        </p:nvPicPr>
        <p:blipFill>
          <a:blip r:embed="rId1"/>
          <a:stretch/>
        </p:blipFill>
        <p:spPr>
          <a:xfrm>
            <a:off x="5638680" y="2514600"/>
            <a:ext cx="2981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A76B-C14F-4190-B766-48AB29EB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ose of 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 gametes with just half the parents’ genetic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 are ______ (haploid/diplo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ly one of each pair of homologous chromosomes gets into each gam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happy 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ametes from the two parents get to fuse, restoring the original number of chromosomes in the fertilized egg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5A6F-4402-41DE-8E8C-DB3818D9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s of Meiosi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iosis (in animals) produces 4 haploid cells from 1 diploid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end of the first division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eiosis 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the 2 cells are already haplo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cond division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eiosis I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splits the 2 sister (identical, replicated DNA) chromatids to 1 chromat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76212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ohnkyrk.com/meios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622-7802-4307-8376-96664656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5: What is true after Meiosis 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Four cells have been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DNA will be replicated on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The cells are ready to perform as gam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: Each chromosome consists of a single strand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PLastEvent" hidden="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6070680"/>
          <a:ext cx="8382240" cy="54936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B9A-4A14-44A2-8695-FD89E78A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thi’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876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hi Soundararajan won the silver medal in the 800-meter race at the 2006 Asian Games in Doha, Qa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her silver medal performance, her sex was officially ques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Athlete Fails Gender Test”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world/south_asia/6188775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ropped"/>
          <p:cNvPicPr/>
          <p:nvPr/>
        </p:nvPicPr>
        <p:blipFill>
          <a:blip r:embed="rId2"/>
          <a:stretch/>
        </p:blipFill>
        <p:spPr>
          <a:xfrm>
            <a:off x="5638680" y="1523880"/>
            <a:ext cx="2208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4C0-3037-49B4-845A-34B8CE47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6: During Meiosis I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PLastEvent" hidden="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6070680"/>
          <a:ext cx="8382240" cy="54936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9608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Homologous chromosomes se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 DNA is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Gametes f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Sister chromatids se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: All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9A0B-C3AD-44D9-AEDE-1EEAA8DF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s of Genetic Variability i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ir of homologous chromosomes lines up at Metaphase I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50:50 chance that a daughter cell will get one or the other copy of the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298080" y="522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264600" y="459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http://fig.cox.miami.edu/~cmallery/150/mitosis/sf9x5b.jpg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141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304920" y="55627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ps.prenhall.com/wps/media/objects/487/498795/CDA10_2/CDA10_2b/CDA10_2b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BB5-7743-49DF-94BF-B0947590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7: How many possible combinations of maternal chromosomes are possible in a human ovum due to independent assortment during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23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46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29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~ 8 million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E3F-A562-4D98-A413-C314337A0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x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mmals, males have one X and one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, half the daughter cells formed by Meiosis I get an X chromosome and half get a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Meiosis II and sperm differentiation, half the sperm are X-bearing and half are Y-b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8D0-2E80-48EE-9AE1-8ADDB73C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Sex Determined in Hum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4648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is determined by the sex chromosome carried by the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chromosome is carried by the eg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867280" y="2895480"/>
            <a:ext cx="2425680" cy="2148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"/>
          <p:cNvSpPr/>
          <p:nvPr/>
        </p:nvSpPr>
        <p:spPr>
          <a:xfrm flipH="1">
            <a:off x="7085160" y="2363760"/>
            <a:ext cx="288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 flipV="1">
            <a:off x="5867280" y="3968280"/>
            <a:ext cx="242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485040" y="1752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730400" y="37339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176520" y="3276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7471800" y="3276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76520" y="42670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7471800" y="42670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6023880" y="52578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7321320" y="525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624852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6005520" y="2016000"/>
            <a:ext cx="357120" cy="373320"/>
          </a:xfrm>
          <a:custGeom>
            <a:avLst/>
            <a:gdLst/>
            <a:ahLst/>
            <a:rect l="l" t="t" r="r" b="b"/>
            <a:pathLst>
              <a:path w="358254" h="374073">
                <a:moveTo>
                  <a:pt x="354068" y="374073"/>
                </a:moveTo>
                <a:cubicBezTo>
                  <a:pt x="347141" y="346364"/>
                  <a:pt x="358254" y="304817"/>
                  <a:pt x="333287" y="290946"/>
                </a:cubicBezTo>
                <a:cubicBezTo>
                  <a:pt x="168060" y="199153"/>
                  <a:pt x="140441" y="349934"/>
                  <a:pt x="187814" y="207819"/>
                </a:cubicBezTo>
                <a:cubicBezTo>
                  <a:pt x="180887" y="180110"/>
                  <a:pt x="190274" y="141292"/>
                  <a:pt x="167032" y="124691"/>
                </a:cubicBezTo>
                <a:cubicBezTo>
                  <a:pt x="61555" y="49350"/>
                  <a:pt x="0" y="178587"/>
                  <a:pt x="63123" y="20782"/>
                </a:cubicBezTo>
                <a:cubicBezTo>
                  <a:pt x="66761" y="11686"/>
                  <a:pt x="76978" y="6927"/>
                  <a:pt x="83905" y="0"/>
                </a:cubicBezTo>
              </a:path>
            </a:pathLst>
          </a:custGeom>
          <a:noFill/>
          <a:ln w="2844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754380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7238880" y="2133720"/>
            <a:ext cx="358920" cy="374400"/>
          </a:xfrm>
          <a:custGeom>
            <a:avLst/>
            <a:gdLst/>
            <a:ahLst/>
            <a:rect l="l" t="t" r="r" b="b"/>
            <a:pathLst>
              <a:path w="358254" h="374073">
                <a:moveTo>
                  <a:pt x="354068" y="374073"/>
                </a:moveTo>
                <a:cubicBezTo>
                  <a:pt x="347141" y="346364"/>
                  <a:pt x="358254" y="304817"/>
                  <a:pt x="333287" y="290946"/>
                </a:cubicBezTo>
                <a:cubicBezTo>
                  <a:pt x="168060" y="199153"/>
                  <a:pt x="140441" y="349934"/>
                  <a:pt x="187814" y="207819"/>
                </a:cubicBezTo>
                <a:cubicBezTo>
                  <a:pt x="180887" y="180110"/>
                  <a:pt x="190274" y="141292"/>
                  <a:pt x="167032" y="124691"/>
                </a:cubicBezTo>
                <a:cubicBezTo>
                  <a:pt x="61555" y="49350"/>
                  <a:pt x="0" y="178587"/>
                  <a:pt x="63123" y="20782"/>
                </a:cubicBezTo>
                <a:cubicBezTo>
                  <a:pt x="66761" y="11686"/>
                  <a:pt x="76978" y="6927"/>
                  <a:pt x="83905" y="0"/>
                </a:cubicBezTo>
              </a:path>
            </a:pathLst>
          </a:custGeom>
          <a:noFill/>
          <a:ln w="2844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5257800" y="3200400"/>
            <a:ext cx="380880" cy="38088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754380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0"/>
          <p:cNvSpPr/>
          <p:nvPr/>
        </p:nvSpPr>
        <p:spPr>
          <a:xfrm>
            <a:off x="5257800" y="4419720"/>
            <a:ext cx="380880" cy="38088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7B3-297E-4131-90EB-E01AC20D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248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8: Could Santhi have an XX karyotype and be m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560" y="28954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No, an XX individual is always fem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Yes, this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Yes, if a male-determining control gene is carried on one of her X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torso_crop-1"/>
          <p:cNvPicPr/>
          <p:nvPr/>
        </p:nvPicPr>
        <p:blipFill>
          <a:blip r:embed="rId1"/>
          <a:stretch/>
        </p:blipFill>
        <p:spPr>
          <a:xfrm>
            <a:off x="685800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4F5A-398E-49D7-9F6E-EBA866BE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s of Genetic Variability i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ossing Over During Meio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ous chromoso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during Prophase I, non-sister chromatids exchange homologous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s between the non-sister chromatids at the point of crossing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crossing over, the chromatid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b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bining paternal and maternal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rossover"/>
          <p:cNvPicPr/>
          <p:nvPr/>
        </p:nvPicPr>
        <p:blipFill>
          <a:blip r:embed="rId1"/>
          <a:stretch/>
        </p:blipFill>
        <p:spPr>
          <a:xfrm>
            <a:off x="4572000" y="2163600"/>
            <a:ext cx="45720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731-979C-4D72-AD35-DEB6A5DA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 anywhere along the aut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, the sex chromosomes (X and Y chromosomes) normally cross over only at their 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F5B4-1BDB-49BD-836C-2D837010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9: During crossover, all of the following happen EX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homologous chromosomes line up in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 homologous chromosomes swap pieces with their adjacent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Crossing over decreases the genetic variability in the gam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Each chromatid is unique after it has crossed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513-6887-4542-849E-38C5F5CA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s Sex Characterized in Humans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ddition to anatomy, physiology, and chromosomes, there is a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pecific genes determine whether an embryo will develop as a male or fe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103-9DB9-49B0-8C30-F38091BC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8 Dec. 2006: “Indian athlete Santhi Soundararajan fails gender test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Indian woman athlete Santhi Soundararajan, who won a silver medal at a recent regional championship, has failed a gender test, according to official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writer KP Mohan said that a team of doctors, including a gynecologist, endocrinologist and psychologist, normally examines athletes and puts them through physical and clinical examinations during a gender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hi Soundararajan's test was done soon after Soundararajan came in second in the women's 800m race on 9 December, but it is not clear how she failed the test at the Asian Games in Do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92D-A154-4141-8BFA-B77359DA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- Determining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romosome) 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in development, the immature gonads of males and females are indistinguis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development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on the Y chromosome activates a number of genes, and the gonads develop as te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, gonads develop as ovaries by de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5"/>
          <p:cNvSpPr/>
          <p:nvPr/>
        </p:nvSpPr>
        <p:spPr>
          <a:xfrm>
            <a:off x="6400800" y="1752480"/>
            <a:ext cx="380880" cy="10670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067040"/>
              <a:gd name="textAreaBottom" fmla="*/ 1048680 h 1067040"/>
            </a:gdLst>
            <a:ahLst/>
            <a:rect l="textAreaLeft" t="textAreaTop" r="textAreaRight" b="textAreaBottom"/>
            <a:pathLst>
              <a:path w="21600" h="60476">
                <a:moveTo>
                  <a:pt x="3600" y="0"/>
                </a:moveTo>
                <a:arcTo wR="3600" hR="3600" stAng="16200000" swAng="-5400000"/>
                <a:lnTo>
                  <a:pt x="0" y="56876"/>
                </a:lnTo>
                <a:arcTo wR="3600" hR="3600" stAng="10800000" swAng="-5400000"/>
                <a:lnTo>
                  <a:pt x="18000" y="60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6"/>
          <p:cNvSpPr/>
          <p:nvPr/>
        </p:nvSpPr>
        <p:spPr>
          <a:xfrm>
            <a:off x="7620120" y="2438280"/>
            <a:ext cx="304560" cy="457200"/>
          </a:xfrm>
          <a:custGeom>
            <a:avLst/>
            <a:gdLst>
              <a:gd name="textAreaLeft" fmla="*/ 29160 w 304560"/>
              <a:gd name="textAreaRight" fmla="*/ 275400 w 304560"/>
              <a:gd name="textAreaTop" fmla="*/ 29160 h 457200"/>
              <a:gd name="textAreaBottom" fmla="*/ 428040 h 457200"/>
            </a:gdLst>
            <a:ahLst/>
            <a:rect l="textAreaLeft" t="textAreaTop" r="textAreaRight" b="textAreaBottom"/>
            <a:pathLst>
              <a:path w="21600" h="32413">
                <a:moveTo>
                  <a:pt x="7115" y="0"/>
                </a:moveTo>
                <a:arcTo wR="7115" hR="7115" stAng="16200000" swAng="-5400000"/>
                <a:lnTo>
                  <a:pt x="0" y="25298"/>
                </a:lnTo>
                <a:arcTo wR="7115" hR="7115" stAng="10800000" swAng="-5400000"/>
                <a:lnTo>
                  <a:pt x="14485" y="32413"/>
                </a:lnTo>
                <a:arcTo wR="7115" hR="7115" stAng="5400000" swAng="-5400000"/>
                <a:lnTo>
                  <a:pt x="21600" y="7115"/>
                </a:lnTo>
                <a:arcTo wR="7115" hR="7115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7"/>
          <p:cNvSpPr/>
          <p:nvPr/>
        </p:nvSpPr>
        <p:spPr>
          <a:xfrm>
            <a:off x="6400800" y="2971800"/>
            <a:ext cx="380880" cy="24382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438280"/>
              <a:gd name="textAreaBottom" fmla="*/ 2419920 h 2438280"/>
            </a:gdLst>
            <a:ahLst/>
            <a:rect l="textAreaLeft" t="textAreaTop" r="textAreaRight" b="textAreaBottom"/>
            <a:pathLst>
              <a:path w="21600" h="138167">
                <a:moveTo>
                  <a:pt x="3600" y="0"/>
                </a:moveTo>
                <a:arcTo wR="3600" hR="3600" stAng="16200000" swAng="-5400000"/>
                <a:lnTo>
                  <a:pt x="0" y="134567"/>
                </a:lnTo>
                <a:arcTo wR="3600" hR="3600" stAng="10800000" swAng="-5400000"/>
                <a:lnTo>
                  <a:pt x="18000" y="138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8"/>
          <p:cNvSpPr/>
          <p:nvPr/>
        </p:nvSpPr>
        <p:spPr>
          <a:xfrm>
            <a:off x="7620120" y="2971800"/>
            <a:ext cx="304560" cy="9907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90720"/>
              <a:gd name="textAreaBottom" fmla="*/ 975960 h 990720"/>
            </a:gdLst>
            <a:ahLst/>
            <a:rect l="textAreaLeft" t="textAreaTop" r="textAreaRight" b="textAreaBottom"/>
            <a:pathLst>
              <a:path w="21600" h="70206">
                <a:moveTo>
                  <a:pt x="3600" y="0"/>
                </a:moveTo>
                <a:arcTo wR="3600" hR="3600" stAng="16200000" swAng="-5400000"/>
                <a:lnTo>
                  <a:pt x="0" y="66606"/>
                </a:lnTo>
                <a:arcTo wR="3600" hR="3600" stAng="10800000" swAng="-5400000"/>
                <a:lnTo>
                  <a:pt x="18000" y="70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6553080" y="2819520"/>
            <a:ext cx="7632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7696080" y="2895480"/>
            <a:ext cx="76320" cy="7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3"/>
          <p:cNvSpPr/>
          <p:nvPr/>
        </p:nvSpPr>
        <p:spPr>
          <a:xfrm flipV="1">
            <a:off x="7620120" y="2666520"/>
            <a:ext cx="3045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6"/>
          <p:cNvSpPr/>
          <p:nvPr/>
        </p:nvSpPr>
        <p:spPr>
          <a:xfrm>
            <a:off x="7620120" y="2590920"/>
            <a:ext cx="274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8153280" y="23623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Y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traight Arrow Connector 24"/>
          <p:cNvCxnSpPr/>
          <p:nvPr/>
        </p:nvCxnSpPr>
        <p:spPr>
          <a:xfrm flipH="1" flipV="1">
            <a:off x="8000280" y="2590560"/>
            <a:ext cx="30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7"/>
          <p:cNvSpPr/>
          <p:nvPr/>
        </p:nvSpPr>
        <p:spPr>
          <a:xfrm>
            <a:off x="6480360" y="571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762336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EF56-BECC-4D09-9D16-414513C8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have an XX male or XY fem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hmi.org/biointeractive/media/meiosis-lg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is X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is XY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reversal occurs in 1 in 20,000 birth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CA7-203D-409C-A620-AEC03E74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10:  If you were a member of the Asian Games medal committee and Santhi’s karyotype revealed that she is XY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RY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She has female genitalia, allow her to keep her me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She is genetically male, take her meda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Perform additional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torso_crop-1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D36-6B9B-4C5B-9C35-7F94FA10E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11: What do you think about requiring gender testing for female athletes in international compet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It should be banned because gender determination is so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t is necessary to ensure an even play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It is necessary, but needs to include a large number of genetic tests to ensure fair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It should be required for all athletes, both male and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torso_crop-1"/>
          <p:cNvPicPr/>
          <p:nvPr/>
        </p:nvPicPr>
        <p:blipFill>
          <a:blip r:embed="rId1"/>
          <a:stretch/>
        </p:blipFill>
        <p:spPr>
          <a:xfrm>
            <a:off x="693432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7EC6-0EF8-4DCD-87B0-2F7BDF0D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Santhi Soundararaj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80880" y="274320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hi was stripped of her silver meda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onymous official in the know has reported that Ms. Soundarajan's tests revealed more Y chromosomes than are usually present in the genetic make-up of a female. No official statement has bee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torso_crop-1"/>
          <p:cNvPicPr/>
          <p:nvPr/>
        </p:nvPicPr>
        <p:blipFill>
          <a:blip r:embed="rId1"/>
          <a:stretch/>
        </p:blipFill>
        <p:spPr>
          <a:xfrm>
            <a:off x="685800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EE7B-38B7-4B2E-A455-0E5E7CA1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you know if someone is male or fem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251460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the person next to you and identify at least 5 characteristics to distinguish males from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D83-4772-4230-861C-6EFBC1415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sex determined in huma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tom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ary and secondary sexual characteristics - genitalia, body hair, pelv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and interaction of the sex organs including concentrations of sex hormones such as estrogen, progesterone, and testoste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8FE-7FCA-40A4-BC3F-B6458F4A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Q1: Imagine you are a member of the committee assigned to determine whether Santhi is female.  Here are possible results of the initial tests (we don’t know the real resul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genitalia: 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s and pubic hair: 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menstrual cycle: 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is information, you conclude that Santhi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 Male                 B: 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ropped"/>
          <p:cNvPicPr/>
          <p:nvPr/>
        </p:nvPicPr>
        <p:blipFill>
          <a:blip r:embed="rId1"/>
          <a:stretch/>
        </p:blipFill>
        <p:spPr>
          <a:xfrm>
            <a:off x="7086600" y="2438280"/>
            <a:ext cx="15429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D33-9D5C-4EBE-97E6-D7E346877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re another way that sex is characterized in huma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possess two X chromosomes in each of their cells, whereas males have one X and one Y 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visualize chromos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are only visible when preparing for nuclear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must be s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268-1EC0-4EBE-8366-ADA57F48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an individual chromosom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hromosome"/>
          <p:cNvPicPr/>
          <p:nvPr/>
        </p:nvPicPr>
        <p:blipFill>
          <a:blip r:embed="rId1"/>
          <a:stretch/>
        </p:blipFill>
        <p:spPr>
          <a:xfrm>
            <a:off x="228600" y="1600200"/>
            <a:ext cx="4162320" cy="491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343400" y="1904760"/>
            <a:ext cx="4495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nuclear division, DNA is tightly pa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is composed of 2 chromat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diagram, the DNA has replicated (more on this l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716-32F6-4209-BD6E-AEE117A0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ry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cture of chromosomes in a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43434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iploid organisms, chromosomes com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, 23 pairs for hu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 karyo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earn.genetics.utah.edu/units/disorders/karyotype/karyotype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79960" y="358128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Kary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karyotype"/>
          <p:cNvPicPr/>
          <p:nvPr/>
        </p:nvPicPr>
        <p:blipFill>
          <a:blip r:embed="rId1"/>
          <a:stretch/>
        </p:blipFill>
        <p:spPr>
          <a:xfrm>
            <a:off x="804960" y="1523880"/>
            <a:ext cx="7424640" cy="20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20:45:47Z</dcterms:created>
  <dc:creator>UB</dc:creator>
  <dc:description/>
  <dc:language>en-US</dc:language>
  <cp:lastModifiedBy>Ky</cp:lastModifiedBy>
  <dcterms:modified xsi:type="dcterms:W3CDTF">2015-12-04T20:19:38Z</dcterms:modified>
  <cp:revision>66</cp:revision>
  <dc:subject/>
  <dc:title>Cross-dressing or Crossing-over: Sex Testing of Women Athletes</dc:title>
</cp:coreProperties>
</file>