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AE2B-7802-41C8-89F5-44DBCCE62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F4F4-9529-4BD1-BE89-C1CAB422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EDD-F115-46A3-8FEB-8ACD1D92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B87-2126-486C-9CDA-293ED28E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C93E-F809-4786-B163-7443E423F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57D6-08EB-44EE-AF9F-811B69E74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55EF-824C-4D33-9091-5C426343D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6576-7A1B-4C51-A0AC-92225AD9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7905-E04C-47ED-BF4A-038307F9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2DF1-A4DC-4F77-BCBE-9566929D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DB8D-F2A2-46D6-A0DA-BF0AD398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738-9EF9-4F8C-9A76-7FFB0F56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77CB-CA2F-4B14-9766-40D2AC53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0C8E-04FB-47E3-A540-FF3F28E7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1628-23E4-4197-B93F-C2835E23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9F2-70E6-47F8-84B3-67E63A20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4B1-3CCD-4093-BFC9-A6089A02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5E8-24E1-4D5A-A782-80E3BD4A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FB9B-5D69-4891-A5C1-DAD6B1B2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A219-1DC9-49AA-A858-3D6131D4E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21E9-37A7-4748-98CA-0ACB17C30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2A17-35A5-4251-9521-C6803B79E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39E-FEB6-4AC5-9E40-C5C69C47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DB29-1AB1-4CC5-9102-32F048366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06C8-842C-4AB5-8346-DB09DBEF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C52C-84F8-4AB0-92F2-B251A776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74E-C44B-4B91-AA6E-4370719F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54E2-E4BB-4EDA-ADD2-C222B155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185-B6EC-448B-8637-9C2BD44B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B36-06A9-478B-B80C-732DD94A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AEDA-3CA2-47AB-BA30-FD93BBE8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E925-3B30-42CF-97CD-C552CF09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ink will demonstrate how human karyotypes are made.  In addition, it will emphasize the potential differences in the sex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051-5B76-4520-9769-21831BB5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539-B752-4279-ACA5-20306BFA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3D7-156E-425D-B916-07D1F946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EE5-B2B5-45B7-9203-6AE85DB9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1B4-5EFC-49E1-9E0E-8AFC808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CE3-DF9F-408E-948A-82B2813F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E98-B30A-44B0-AC82-52C9E464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D21D-E596-4E7E-B6D3-15C96361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860-F248-49DB-9F8B-AEAA793E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596B-2D39-4F71-8DCA-58AF06E0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153-03CA-4F62-B43B-D11EC268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C77-A53D-4DBE-B717-2F22B8DD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0859-58CF-4D77-BB44-0D149D7744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5ED-7E2E-43D6-A35F-36FEC193E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bbc.co.uk/2/hi/world/south_asia/6188775.s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5FF-5032-40FD-8471-50BE2313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reamstime_244661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oss-Dressing or Crossing-Over: Sex Testing of Women Athl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ureen Knabb, Department of Biology, West Chester University, and Joan Sharp, Biological Sciences, Simon Fraser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AC93-BD8D-48FD-9152-36AE291E9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2: A karyotype was performed on an athlete.  Here are the results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5105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se results, the athlet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Ma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uman_male_karyotpe_high_resolution"/>
          <p:cNvPicPr/>
          <p:nvPr/>
        </p:nvPicPr>
        <p:blipFill>
          <a:blip r:embed="rId1"/>
          <a:stretch/>
        </p:blipFill>
        <p:spPr>
          <a:xfrm>
            <a:off x="2057400" y="1344600"/>
            <a:ext cx="480060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3C2-FEDA-47D9-ADB3-E655CD823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5715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3: So if Santhi is a normal female, her karyotype would b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X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cropped"/>
          <p:cNvPicPr/>
          <p:nvPr/>
        </p:nvPicPr>
        <p:blipFill>
          <a:blip r:embed="rId1"/>
          <a:stretch/>
        </p:blipFill>
        <p:spPr>
          <a:xfrm>
            <a:off x="5943600" y="914400"/>
            <a:ext cx="2208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1183-676B-4AA4-A6A0-DB93DE8C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EX</a:t>
            </a:r>
            <a:br>
              <a:rPr sz="66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I have your attention now?)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8B82-3AF6-4AB1-A6F2-9CAC2AA0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te of Genetic Materi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ing Sexual Re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ntain genetic material from both your Mom and 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46 chromosomes, and so do (will) your childr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ttp://courses.bio.psu.edu/fall2005/biol110/tutorials/tutorial2_files/fig_13_3.jpg"/>
          <p:cNvPicPr/>
          <p:nvPr/>
        </p:nvPicPr>
        <p:blipFill>
          <a:blip r:embed="rId1"/>
          <a:stretch/>
        </p:blipFill>
        <p:spPr>
          <a:xfrm>
            <a:off x="3429000" y="1676520"/>
            <a:ext cx="5213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FE9-CFFB-4590-84DE-5C8E2116E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46 chromosomes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n = diploi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23 chromosomes           Sp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n = haploid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chromosomes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838080" y="1752480"/>
            <a:ext cx="228600" cy="1067040"/>
          </a:xfrm>
          <a:prstGeom prst="downArrow">
            <a:avLst>
              <a:gd name="adj1" fmla="val 50000"/>
              <a:gd name="adj2" fmla="val 1125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696080" y="1752480"/>
            <a:ext cx="228600" cy="1067040"/>
          </a:xfrm>
          <a:prstGeom prst="downArrow">
            <a:avLst>
              <a:gd name="adj1" fmla="val 50000"/>
              <a:gd name="adj2" fmla="val 1125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1219320" y="3886200"/>
            <a:ext cx="2438280" cy="14479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>
            <a:off x="5181480" y="3886200"/>
            <a:ext cx="2362320" cy="1523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8ABC-D15D-4861-B987-1C402126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ploid and Diploid Chromos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1676520" y="1752480"/>
            <a:ext cx="30456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1600200" y="251460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1752480" y="22860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952160" y="403848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ploid with two chromat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5791320" y="1905120"/>
            <a:ext cx="304560" cy="60948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5257800" y="4495680"/>
            <a:ext cx="30492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6781680" y="4495680"/>
            <a:ext cx="30492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4"/>
          <p:cNvSpPr/>
          <p:nvPr/>
        </p:nvSpPr>
        <p:spPr>
          <a:xfrm>
            <a:off x="2133720" y="4495680"/>
            <a:ext cx="30456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6"/>
          <p:cNvSpPr/>
          <p:nvPr/>
        </p:nvSpPr>
        <p:spPr>
          <a:xfrm>
            <a:off x="914400" y="4495680"/>
            <a:ext cx="304920" cy="609840"/>
          </a:xfrm>
          <a:custGeom>
            <a:avLst/>
            <a:gdLst/>
            <a:ahLst/>
            <a:rect l="l" t="t" r="r" b="b"/>
            <a:pathLst>
              <a:path w="351823" h="833708">
                <a:moveTo>
                  <a:pt x="201478" y="815627"/>
                </a:moveTo>
                <a:cubicBezTo>
                  <a:pt x="183397" y="797546"/>
                  <a:pt x="166567" y="707857"/>
                  <a:pt x="154983" y="691640"/>
                </a:cubicBezTo>
                <a:cubicBezTo>
                  <a:pt x="144156" y="676483"/>
                  <a:pt x="122797" y="672568"/>
                  <a:pt x="108488" y="660644"/>
                </a:cubicBezTo>
                <a:cubicBezTo>
                  <a:pt x="91650" y="646613"/>
                  <a:pt x="76024" y="630987"/>
                  <a:pt x="61993" y="614149"/>
                </a:cubicBezTo>
                <a:cubicBezTo>
                  <a:pt x="34612" y="581292"/>
                  <a:pt x="18947" y="543554"/>
                  <a:pt x="0" y="505660"/>
                </a:cubicBezTo>
                <a:cubicBezTo>
                  <a:pt x="5166" y="355843"/>
                  <a:pt x="6147" y="205824"/>
                  <a:pt x="15498" y="56210"/>
                </a:cubicBezTo>
                <a:cubicBezTo>
                  <a:pt x="16517" y="39905"/>
                  <a:pt x="14760" y="11519"/>
                  <a:pt x="30997" y="9715"/>
                </a:cubicBezTo>
                <a:cubicBezTo>
                  <a:pt x="118434" y="0"/>
                  <a:pt x="206644" y="20047"/>
                  <a:pt x="294468" y="25213"/>
                </a:cubicBezTo>
                <a:cubicBezTo>
                  <a:pt x="299634" y="45877"/>
                  <a:pt x="306156" y="66249"/>
                  <a:pt x="309966" y="87206"/>
                </a:cubicBezTo>
                <a:cubicBezTo>
                  <a:pt x="351823" y="317414"/>
                  <a:pt x="334038" y="549929"/>
                  <a:pt x="309966" y="784630"/>
                </a:cubicBezTo>
                <a:cubicBezTo>
                  <a:pt x="308299" y="800881"/>
                  <a:pt x="279681" y="798102"/>
                  <a:pt x="263471" y="800128"/>
                </a:cubicBezTo>
                <a:cubicBezTo>
                  <a:pt x="237840" y="803332"/>
                  <a:pt x="219559" y="833708"/>
                  <a:pt x="201478" y="815627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7"/>
          <p:cNvSpPr/>
          <p:nvPr/>
        </p:nvSpPr>
        <p:spPr>
          <a:xfrm>
            <a:off x="6172200" y="1905120"/>
            <a:ext cx="228600" cy="685800"/>
          </a:xfrm>
          <a:custGeom>
            <a:avLst/>
            <a:gdLst/>
            <a:ahLst/>
            <a:rect l="l" t="t" r="r" b="b"/>
            <a:pathLst>
              <a:path w="321401" h="783088">
                <a:moveTo>
                  <a:pt x="23247" y="718512"/>
                </a:moveTo>
                <a:cubicBezTo>
                  <a:pt x="0" y="653936"/>
                  <a:pt x="29426" y="429002"/>
                  <a:pt x="38745" y="284559"/>
                </a:cubicBezTo>
                <a:cubicBezTo>
                  <a:pt x="39797" y="268256"/>
                  <a:pt x="52085" y="254257"/>
                  <a:pt x="54244" y="238064"/>
                </a:cubicBezTo>
                <a:cubicBezTo>
                  <a:pt x="62466" y="176402"/>
                  <a:pt x="53713" y="112192"/>
                  <a:pt x="69742" y="52084"/>
                </a:cubicBezTo>
                <a:cubicBezTo>
                  <a:pt x="75389" y="30906"/>
                  <a:pt x="100739" y="21088"/>
                  <a:pt x="116237" y="5590"/>
                </a:cubicBezTo>
                <a:cubicBezTo>
                  <a:pt x="164350" y="10936"/>
                  <a:pt x="260550" y="0"/>
                  <a:pt x="302217" y="52084"/>
                </a:cubicBezTo>
                <a:cubicBezTo>
                  <a:pt x="312422" y="64841"/>
                  <a:pt x="312549" y="83081"/>
                  <a:pt x="317715" y="98579"/>
                </a:cubicBezTo>
                <a:cubicBezTo>
                  <a:pt x="312549" y="248396"/>
                  <a:pt x="321401" y="399356"/>
                  <a:pt x="302217" y="548030"/>
                </a:cubicBezTo>
                <a:cubicBezTo>
                  <a:pt x="299833" y="566504"/>
                  <a:pt x="268893" y="565856"/>
                  <a:pt x="255722" y="579027"/>
                </a:cubicBezTo>
                <a:cubicBezTo>
                  <a:pt x="234505" y="600244"/>
                  <a:pt x="212082" y="663554"/>
                  <a:pt x="178230" y="672017"/>
                </a:cubicBezTo>
                <a:cubicBezTo>
                  <a:pt x="133123" y="683294"/>
                  <a:pt x="46494" y="783088"/>
                  <a:pt x="23247" y="718512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5"/>
          <p:cNvSpPr/>
          <p:nvPr/>
        </p:nvSpPr>
        <p:spPr>
          <a:xfrm rot="20991000">
            <a:off x="6067080" y="253836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 rot="1191000">
            <a:off x="5567040" y="2540160"/>
            <a:ext cx="40644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456480" y="4038480"/>
            <a:ext cx="31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ploid with one chroma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1"/>
          <p:cNvSpPr/>
          <p:nvPr/>
        </p:nvSpPr>
        <p:spPr>
          <a:xfrm>
            <a:off x="838080" y="5105520"/>
            <a:ext cx="40644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2"/>
          <p:cNvSpPr/>
          <p:nvPr/>
        </p:nvSpPr>
        <p:spPr>
          <a:xfrm>
            <a:off x="2057400" y="5105520"/>
            <a:ext cx="40644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2209680" y="50292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990720" y="502920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4561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id with one chroma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6"/>
          <p:cNvSpPr/>
          <p:nvPr/>
        </p:nvSpPr>
        <p:spPr>
          <a:xfrm>
            <a:off x="7086600" y="4495680"/>
            <a:ext cx="228600" cy="685800"/>
          </a:xfrm>
          <a:custGeom>
            <a:avLst/>
            <a:gdLst/>
            <a:ahLst/>
            <a:rect l="l" t="t" r="r" b="b"/>
            <a:pathLst>
              <a:path w="321401" h="783088">
                <a:moveTo>
                  <a:pt x="23247" y="718512"/>
                </a:moveTo>
                <a:cubicBezTo>
                  <a:pt x="0" y="653936"/>
                  <a:pt x="29426" y="429002"/>
                  <a:pt x="38745" y="284559"/>
                </a:cubicBezTo>
                <a:cubicBezTo>
                  <a:pt x="39797" y="268256"/>
                  <a:pt x="52085" y="254257"/>
                  <a:pt x="54244" y="238064"/>
                </a:cubicBezTo>
                <a:cubicBezTo>
                  <a:pt x="62466" y="176402"/>
                  <a:pt x="53713" y="112192"/>
                  <a:pt x="69742" y="52084"/>
                </a:cubicBezTo>
                <a:cubicBezTo>
                  <a:pt x="75389" y="30906"/>
                  <a:pt x="100739" y="21088"/>
                  <a:pt x="116237" y="5590"/>
                </a:cubicBezTo>
                <a:cubicBezTo>
                  <a:pt x="164350" y="10936"/>
                  <a:pt x="260550" y="0"/>
                  <a:pt x="302217" y="52084"/>
                </a:cubicBezTo>
                <a:cubicBezTo>
                  <a:pt x="312422" y="64841"/>
                  <a:pt x="312549" y="83081"/>
                  <a:pt x="317715" y="98579"/>
                </a:cubicBezTo>
                <a:cubicBezTo>
                  <a:pt x="312549" y="248396"/>
                  <a:pt x="321401" y="399356"/>
                  <a:pt x="302217" y="548030"/>
                </a:cubicBezTo>
                <a:cubicBezTo>
                  <a:pt x="299833" y="566504"/>
                  <a:pt x="268893" y="565856"/>
                  <a:pt x="255722" y="579027"/>
                </a:cubicBezTo>
                <a:cubicBezTo>
                  <a:pt x="234505" y="600244"/>
                  <a:pt x="212082" y="663554"/>
                  <a:pt x="178230" y="672017"/>
                </a:cubicBezTo>
                <a:cubicBezTo>
                  <a:pt x="133123" y="683294"/>
                  <a:pt x="46494" y="783088"/>
                  <a:pt x="23247" y="718512"/>
                </a:cubicBez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7"/>
          <p:cNvSpPr/>
          <p:nvPr/>
        </p:nvSpPr>
        <p:spPr>
          <a:xfrm>
            <a:off x="5562720" y="4419720"/>
            <a:ext cx="228600" cy="685800"/>
          </a:xfrm>
          <a:custGeom>
            <a:avLst/>
            <a:gdLst/>
            <a:ahLst/>
            <a:rect l="l" t="t" r="r" b="b"/>
            <a:pathLst>
              <a:path w="321401" h="783088">
                <a:moveTo>
                  <a:pt x="23247" y="718512"/>
                </a:moveTo>
                <a:cubicBezTo>
                  <a:pt x="0" y="653936"/>
                  <a:pt x="29426" y="429002"/>
                  <a:pt x="38745" y="284559"/>
                </a:cubicBezTo>
                <a:cubicBezTo>
                  <a:pt x="39797" y="268256"/>
                  <a:pt x="52085" y="254257"/>
                  <a:pt x="54244" y="238064"/>
                </a:cubicBezTo>
                <a:cubicBezTo>
                  <a:pt x="62466" y="176402"/>
                  <a:pt x="53713" y="112192"/>
                  <a:pt x="69742" y="52084"/>
                </a:cubicBezTo>
                <a:cubicBezTo>
                  <a:pt x="75389" y="30906"/>
                  <a:pt x="100739" y="21088"/>
                  <a:pt x="116237" y="5590"/>
                </a:cubicBezTo>
                <a:cubicBezTo>
                  <a:pt x="164350" y="10936"/>
                  <a:pt x="260550" y="0"/>
                  <a:pt x="302217" y="52084"/>
                </a:cubicBezTo>
                <a:cubicBezTo>
                  <a:pt x="312422" y="64841"/>
                  <a:pt x="312549" y="83081"/>
                  <a:pt x="317715" y="98579"/>
                </a:cubicBezTo>
                <a:cubicBezTo>
                  <a:pt x="312549" y="248396"/>
                  <a:pt x="321401" y="399356"/>
                  <a:pt x="302217" y="548030"/>
                </a:cubicBezTo>
                <a:cubicBezTo>
                  <a:pt x="299833" y="566504"/>
                  <a:pt x="268893" y="565856"/>
                  <a:pt x="255722" y="579027"/>
                </a:cubicBezTo>
                <a:cubicBezTo>
                  <a:pt x="234505" y="600244"/>
                  <a:pt x="212082" y="663554"/>
                  <a:pt x="178230" y="672017"/>
                </a:cubicBezTo>
                <a:cubicBezTo>
                  <a:pt x="133123" y="683294"/>
                  <a:pt x="46494" y="783088"/>
                  <a:pt x="23247" y="718512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8"/>
          <p:cNvSpPr/>
          <p:nvPr/>
        </p:nvSpPr>
        <p:spPr>
          <a:xfrm rot="1191000">
            <a:off x="6557760" y="5054760"/>
            <a:ext cx="406080" cy="144756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 rot="1191000">
            <a:off x="5033520" y="497844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0"/>
          <p:cNvSpPr/>
          <p:nvPr/>
        </p:nvSpPr>
        <p:spPr>
          <a:xfrm rot="20631600">
            <a:off x="5533560" y="505260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1"/>
          <p:cNvSpPr/>
          <p:nvPr/>
        </p:nvSpPr>
        <p:spPr>
          <a:xfrm rot="20592600">
            <a:off x="7057800" y="5052960"/>
            <a:ext cx="406440" cy="1447920"/>
          </a:xfrm>
          <a:custGeom>
            <a:avLst/>
            <a:gdLst/>
            <a:ahLst/>
            <a:rect l="l" t="t" r="r" b="b"/>
            <a:pathLst>
              <a:path w="406933" h="1120588">
                <a:moveTo>
                  <a:pt x="205455" y="0"/>
                </a:moveTo>
                <a:cubicBezTo>
                  <a:pt x="193298" y="24314"/>
                  <a:pt x="165370" y="86580"/>
                  <a:pt x="143462" y="108488"/>
                </a:cubicBezTo>
                <a:cubicBezTo>
                  <a:pt x="130291" y="121659"/>
                  <a:pt x="112465" y="129153"/>
                  <a:pt x="96967" y="139485"/>
                </a:cubicBezTo>
                <a:cubicBezTo>
                  <a:pt x="104573" y="512174"/>
                  <a:pt x="0" y="709836"/>
                  <a:pt x="143462" y="960895"/>
                </a:cubicBezTo>
                <a:cubicBezTo>
                  <a:pt x="152703" y="977068"/>
                  <a:pt x="164127" y="991892"/>
                  <a:pt x="174459" y="1007390"/>
                </a:cubicBezTo>
                <a:cubicBezTo>
                  <a:pt x="210621" y="1115878"/>
                  <a:pt x="174458" y="1090048"/>
                  <a:pt x="251950" y="1115878"/>
                </a:cubicBezTo>
                <a:cubicBezTo>
                  <a:pt x="345642" y="1092456"/>
                  <a:pt x="307208" y="1120588"/>
                  <a:pt x="344940" y="1007390"/>
                </a:cubicBezTo>
                <a:lnTo>
                  <a:pt x="360438" y="960895"/>
                </a:lnTo>
                <a:cubicBezTo>
                  <a:pt x="365604" y="785247"/>
                  <a:pt x="368135" y="609502"/>
                  <a:pt x="375937" y="433952"/>
                </a:cubicBezTo>
                <a:cubicBezTo>
                  <a:pt x="382902" y="277238"/>
                  <a:pt x="376257" y="309005"/>
                  <a:pt x="406933" y="216976"/>
                </a:cubicBezTo>
                <a:cubicBezTo>
                  <a:pt x="401767" y="201478"/>
                  <a:pt x="399540" y="184665"/>
                  <a:pt x="391435" y="170481"/>
                </a:cubicBezTo>
                <a:cubicBezTo>
                  <a:pt x="363342" y="121318"/>
                  <a:pt x="337939" y="109983"/>
                  <a:pt x="313944" y="61993"/>
                </a:cubicBezTo>
                <a:cubicBezTo>
                  <a:pt x="306638" y="47381"/>
                  <a:pt x="309997" y="27050"/>
                  <a:pt x="298445" y="15498"/>
                </a:cubicBezTo>
                <a:cubicBezTo>
                  <a:pt x="286893" y="3946"/>
                  <a:pt x="267448" y="5166"/>
                  <a:pt x="251950" y="0"/>
                </a:cubicBezTo>
                <a:lnTo>
                  <a:pt x="205455" y="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2"/>
          <p:cNvSpPr/>
          <p:nvPr/>
        </p:nvSpPr>
        <p:spPr>
          <a:xfrm>
            <a:off x="6934320" y="49528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3"/>
          <p:cNvSpPr/>
          <p:nvPr/>
        </p:nvSpPr>
        <p:spPr>
          <a:xfrm>
            <a:off x="5410080" y="4952880"/>
            <a:ext cx="22860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1804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loid with two chromat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27C0-2DC3-480F-86CA-1DFBD9CD0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Q4: Assume that this is one of Santhi’s chromosomes.  This chromosome is composed of two chromatids joined by a centrom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160" y="16765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These chromatids make up a diploid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The cell that contains these sister chromatids must be dip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The sister chromatids were formed by replicating a single chromat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The sister chromatids were joined by fertilization, bringing together a maternal and paternal chromat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http://www.mrothery.co.uk/module2/images/Image213.gif"/>
          <p:cNvPicPr/>
          <p:nvPr/>
        </p:nvPicPr>
        <p:blipFill>
          <a:blip r:embed="rId1"/>
          <a:stretch/>
        </p:blipFill>
        <p:spPr>
          <a:xfrm>
            <a:off x="5638680" y="2514600"/>
            <a:ext cx="29815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7273-B53A-45D8-BB32-5C3DB4432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ose of mei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ani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duce gametes with just half the parents’ genetic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tes are ______ (haploid/diplo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ly one of each pair of homologous chromosomes gets into each gam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happy e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ametes from the two parents get to fuse, restoring the original number of chromosomes in the fertilized egg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4FA-5DF4-408C-A8B5-9C974EF58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s of Meiosi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iosis (in animals) produces 4 haploid cells from 1 diploid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end of the first division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eiosis 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the 2 cells are already haplo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cond division 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Meiosis I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splits the 2 sister (identical, replicated DNA) chromatids to 1 chromat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76212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ohnkyrk.com/meiosi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0262-C02C-4B1E-9834-13EE7F66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5: What is true after Meiosis 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Four cells have been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s are hap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The DNA will be replicated onc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The cells are ready to perform as gam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: Each chromosome consists of a single strand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PLastEvent" hidden="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6070680"/>
          <a:ext cx="8382240" cy="54936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63D1-1F18-4049-8A7F-432267625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thi’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876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hi Soundararajan won the silver medal in the 800-meter race at the 2006 Asian Games in Doha, Qa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her silver medal performance, her sex was officially questi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Athlete Fails Gender Test”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world/south_asia/6188775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ropped"/>
          <p:cNvPicPr/>
          <p:nvPr/>
        </p:nvPicPr>
        <p:blipFill>
          <a:blip r:embed="rId2"/>
          <a:stretch/>
        </p:blipFill>
        <p:spPr>
          <a:xfrm>
            <a:off x="5638680" y="1523880"/>
            <a:ext cx="2208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B047-85EB-40CB-884E-DE169214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6: During Meiosis I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PLastEvent" hidden="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6070680"/>
          <a:ext cx="8382240" cy="54936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9608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Homologous chromosomes se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 DNA is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Gametes f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Sister chromatids sepa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: All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9DA2-BC5E-4DCF-B3FE-23165F8F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s of Genetic Variability i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ir of homologous chromosomes lines up at Metaphase I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50:50 chance that a daughter cell will get one or the other copy of the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298080" y="522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9264600" y="459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http://fig.cox.miami.edu/~cmallery/150/mitosis/sf9x5b.jpg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141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304920" y="5562720"/>
            <a:ext cx="861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ps.prenhall.com/wps/media/objects/487/498795/CDA10_2/CDA10_2b/CDA10_2b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C8F-008A-4123-81FA-3363E60E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7: How many possible combinations of maternal chromosomes are possible in a human ovum due to independent assortment during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23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46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29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~ 8 million 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91B-BD7E-4151-96EA-77AF0FA4A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x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mmals, males have one X and one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les, half the daughter cells formed by Meiosis I get an X chromosome and half get a Y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Meiosis II and sperm differentiation, half the sperm are X-bearing and half are Y-b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51E4-1694-4648-B7C4-9E707C49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Sex Determined in Hum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46483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is determined by the sex chromosome carried by the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x chromosome is carried by the eg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867280" y="2895480"/>
            <a:ext cx="2425680" cy="2148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6"/>
          <p:cNvSpPr/>
          <p:nvPr/>
        </p:nvSpPr>
        <p:spPr>
          <a:xfrm flipH="1">
            <a:off x="7085160" y="2363760"/>
            <a:ext cx="288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 flipV="1">
            <a:off x="5867280" y="3968280"/>
            <a:ext cx="242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485040" y="1752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4730400" y="37339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176520" y="3276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5"/>
          <p:cNvSpPr/>
          <p:nvPr/>
        </p:nvSpPr>
        <p:spPr>
          <a:xfrm>
            <a:off x="7471800" y="32767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6"/>
          <p:cNvSpPr/>
          <p:nvPr/>
        </p:nvSpPr>
        <p:spPr>
          <a:xfrm>
            <a:off x="6176520" y="42670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7471800" y="42670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6023880" y="52578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7321320" y="52578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6248520" y="2362320"/>
            <a:ext cx="380880" cy="380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6005520" y="2016000"/>
            <a:ext cx="357120" cy="373320"/>
          </a:xfrm>
          <a:custGeom>
            <a:avLst/>
            <a:gdLst/>
            <a:ahLst/>
            <a:rect l="l" t="t" r="r" b="b"/>
            <a:pathLst>
              <a:path w="358254" h="374073">
                <a:moveTo>
                  <a:pt x="354068" y="374073"/>
                </a:moveTo>
                <a:cubicBezTo>
                  <a:pt x="347141" y="346364"/>
                  <a:pt x="358254" y="304817"/>
                  <a:pt x="333287" y="290946"/>
                </a:cubicBezTo>
                <a:cubicBezTo>
                  <a:pt x="168060" y="199153"/>
                  <a:pt x="140441" y="349934"/>
                  <a:pt x="187814" y="207819"/>
                </a:cubicBezTo>
                <a:cubicBezTo>
                  <a:pt x="180887" y="180110"/>
                  <a:pt x="190274" y="141292"/>
                  <a:pt x="167032" y="124691"/>
                </a:cubicBezTo>
                <a:cubicBezTo>
                  <a:pt x="61555" y="49350"/>
                  <a:pt x="0" y="178587"/>
                  <a:pt x="63123" y="20782"/>
                </a:cubicBezTo>
                <a:cubicBezTo>
                  <a:pt x="66761" y="11686"/>
                  <a:pt x="76978" y="6927"/>
                  <a:pt x="83905" y="0"/>
                </a:cubicBezTo>
              </a:path>
            </a:pathLst>
          </a:custGeom>
          <a:noFill/>
          <a:ln w="2844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7543800" y="2362320"/>
            <a:ext cx="380880" cy="380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7238880" y="2133720"/>
            <a:ext cx="358920" cy="374400"/>
          </a:xfrm>
          <a:custGeom>
            <a:avLst/>
            <a:gdLst/>
            <a:ahLst/>
            <a:rect l="l" t="t" r="r" b="b"/>
            <a:pathLst>
              <a:path w="358254" h="374073">
                <a:moveTo>
                  <a:pt x="354068" y="374073"/>
                </a:moveTo>
                <a:cubicBezTo>
                  <a:pt x="347141" y="346364"/>
                  <a:pt x="358254" y="304817"/>
                  <a:pt x="333287" y="290946"/>
                </a:cubicBezTo>
                <a:cubicBezTo>
                  <a:pt x="168060" y="199153"/>
                  <a:pt x="140441" y="349934"/>
                  <a:pt x="187814" y="207819"/>
                </a:cubicBezTo>
                <a:cubicBezTo>
                  <a:pt x="180887" y="180110"/>
                  <a:pt x="190274" y="141292"/>
                  <a:pt x="167032" y="124691"/>
                </a:cubicBezTo>
                <a:cubicBezTo>
                  <a:pt x="61555" y="49350"/>
                  <a:pt x="0" y="178587"/>
                  <a:pt x="63123" y="20782"/>
                </a:cubicBezTo>
                <a:cubicBezTo>
                  <a:pt x="66761" y="11686"/>
                  <a:pt x="76978" y="6927"/>
                  <a:pt x="83905" y="0"/>
                </a:cubicBezTo>
              </a:path>
            </a:pathLst>
          </a:custGeom>
          <a:noFill/>
          <a:ln w="28440">
            <a:solidFill>
              <a:srgbClr val="2f2f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5257800" y="3200400"/>
            <a:ext cx="380880" cy="38088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7543800" y="2362320"/>
            <a:ext cx="380880" cy="3808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0"/>
          <p:cNvSpPr/>
          <p:nvPr/>
        </p:nvSpPr>
        <p:spPr>
          <a:xfrm>
            <a:off x="5257800" y="4419720"/>
            <a:ext cx="380880" cy="380880"/>
          </a:xfrm>
          <a:prstGeom prst="ellipse">
            <a:avLst/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B894-5885-41D1-8861-3588C870A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248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8: Could Santhi have an XX karyotype and be m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560" y="289548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 No, an XX individual is always fem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Yes, this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 Yes, if a male-determining control gene is carried on one of her X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torso_crop-1"/>
          <p:cNvPicPr/>
          <p:nvPr/>
        </p:nvPicPr>
        <p:blipFill>
          <a:blip r:embed="rId1"/>
          <a:stretch/>
        </p:blipFill>
        <p:spPr>
          <a:xfrm>
            <a:off x="6858000" y="304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FDA-4B22-4272-A664-66CC83C9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s of Genetic Variability i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ossing Over During Meio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ous chromoso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during Prophase I, non-sister chromatids exchange homologous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as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s between the non-sister chromatids at the point of crossing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crossing over, the chromatid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b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bining paternal and maternal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rossover"/>
          <p:cNvPicPr/>
          <p:nvPr/>
        </p:nvPicPr>
        <p:blipFill>
          <a:blip r:embed="rId1"/>
          <a:stretch/>
        </p:blipFill>
        <p:spPr>
          <a:xfrm>
            <a:off x="4572000" y="2163600"/>
            <a:ext cx="457200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A684-0618-4FDC-A5DC-8AA3015F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 anywhere along the aut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les, the sex chromosomes (X and Y chromosomes) normally cross over only at their t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6B39-6308-4EFF-BFE7-184C33652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Q9: During crossover, all of the following happen EXCE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The homologous chromosomes line up in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The homologous chromosomes swap pieces with their adjacent part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Crossing over decreases the genetic variability in the gam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 Each chromatid is unique after it has crossed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FB1-4E02-4813-8027-FF806F51E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s Sex Characterized in Humans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ddition to anatomy, physiology, and chromosomes, there is a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pecific genes determine whether an embryo will develop as a male or fem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3593-7266-4EA1-B495-1F4350E6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8 Dec. 2006: “Indian athlete Santhi Soundararajan fails gender test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Indian woman athlete Santhi Soundararajan, who won a silver medal at a recent regional championship, has failed a gender test, according to official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writer KP Mohan said that a team of doctors, including a gynecologist, endocrinologist and psychologist, normally examines athletes and puts them through physical and clinical examinations during a gender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hi Soundararajan's test was done soon after Soundararajan came in second in the women's 800m race on 9 December, but it is not clear how she failed the test at the Asian Games in Do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D888-A86B-47CC-87BF-127E6D7D8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- Determining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hromosome) 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in development, the immature gonads of males and females are indistinguish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development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on the Y chromosome activates a number of genes, and the gonads develop as te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al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, gonads develop as ovaries by defa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5"/>
          <p:cNvSpPr/>
          <p:nvPr/>
        </p:nvSpPr>
        <p:spPr>
          <a:xfrm>
            <a:off x="6400800" y="1752480"/>
            <a:ext cx="380880" cy="106704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067040"/>
              <a:gd name="textAreaBottom" fmla="*/ 1048680 h 1067040"/>
            </a:gdLst>
            <a:ahLst/>
            <a:rect l="textAreaLeft" t="textAreaTop" r="textAreaRight" b="textAreaBottom"/>
            <a:pathLst>
              <a:path w="21600" h="60476">
                <a:moveTo>
                  <a:pt x="3600" y="0"/>
                </a:moveTo>
                <a:arcTo wR="3600" hR="3600" stAng="16200000" swAng="-5400000"/>
                <a:lnTo>
                  <a:pt x="0" y="56876"/>
                </a:lnTo>
                <a:arcTo wR="3600" hR="3600" stAng="10800000" swAng="-5400000"/>
                <a:lnTo>
                  <a:pt x="18000" y="604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6"/>
          <p:cNvSpPr/>
          <p:nvPr/>
        </p:nvSpPr>
        <p:spPr>
          <a:xfrm>
            <a:off x="7620120" y="2438280"/>
            <a:ext cx="304560" cy="457200"/>
          </a:xfrm>
          <a:custGeom>
            <a:avLst/>
            <a:gdLst>
              <a:gd name="textAreaLeft" fmla="*/ 29160 w 304560"/>
              <a:gd name="textAreaRight" fmla="*/ 275400 w 304560"/>
              <a:gd name="textAreaTop" fmla="*/ 29160 h 457200"/>
              <a:gd name="textAreaBottom" fmla="*/ 428040 h 457200"/>
            </a:gdLst>
            <a:ahLst/>
            <a:rect l="textAreaLeft" t="textAreaTop" r="textAreaRight" b="textAreaBottom"/>
            <a:pathLst>
              <a:path w="21600" h="32413">
                <a:moveTo>
                  <a:pt x="7115" y="0"/>
                </a:moveTo>
                <a:arcTo wR="7115" hR="7115" stAng="16200000" swAng="-5400000"/>
                <a:lnTo>
                  <a:pt x="0" y="25298"/>
                </a:lnTo>
                <a:arcTo wR="7115" hR="7115" stAng="10800000" swAng="-5400000"/>
                <a:lnTo>
                  <a:pt x="14485" y="32413"/>
                </a:lnTo>
                <a:arcTo wR="7115" hR="7115" stAng="5400000" swAng="-5400000"/>
                <a:lnTo>
                  <a:pt x="21600" y="7115"/>
                </a:lnTo>
                <a:arcTo wR="7115" hR="7115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7"/>
          <p:cNvSpPr/>
          <p:nvPr/>
        </p:nvSpPr>
        <p:spPr>
          <a:xfrm>
            <a:off x="6400800" y="2971800"/>
            <a:ext cx="380880" cy="243828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438280"/>
              <a:gd name="textAreaBottom" fmla="*/ 2419920 h 2438280"/>
            </a:gdLst>
            <a:ahLst/>
            <a:rect l="textAreaLeft" t="textAreaTop" r="textAreaRight" b="textAreaBottom"/>
            <a:pathLst>
              <a:path w="21600" h="138167">
                <a:moveTo>
                  <a:pt x="3600" y="0"/>
                </a:moveTo>
                <a:arcTo wR="3600" hR="3600" stAng="16200000" swAng="-5400000"/>
                <a:lnTo>
                  <a:pt x="0" y="134567"/>
                </a:lnTo>
                <a:arcTo wR="3600" hR="3600" stAng="10800000" swAng="-5400000"/>
                <a:lnTo>
                  <a:pt x="18000" y="138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8"/>
          <p:cNvSpPr/>
          <p:nvPr/>
        </p:nvSpPr>
        <p:spPr>
          <a:xfrm>
            <a:off x="7620120" y="2971800"/>
            <a:ext cx="304560" cy="9907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990720"/>
              <a:gd name="textAreaBottom" fmla="*/ 975960 h 990720"/>
            </a:gdLst>
            <a:ahLst/>
            <a:rect l="textAreaLeft" t="textAreaTop" r="textAreaRight" b="textAreaBottom"/>
            <a:pathLst>
              <a:path w="21600" h="70206">
                <a:moveTo>
                  <a:pt x="3600" y="0"/>
                </a:moveTo>
                <a:arcTo wR="3600" hR="3600" stAng="16200000" swAng="-5400000"/>
                <a:lnTo>
                  <a:pt x="0" y="66606"/>
                </a:lnTo>
                <a:arcTo wR="3600" hR="3600" stAng="10800000" swAng="-5400000"/>
                <a:lnTo>
                  <a:pt x="18000" y="70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6553080" y="2819520"/>
            <a:ext cx="76320" cy="152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7696080" y="2895480"/>
            <a:ext cx="76320" cy="7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3"/>
          <p:cNvSpPr/>
          <p:nvPr/>
        </p:nvSpPr>
        <p:spPr>
          <a:xfrm flipV="1">
            <a:off x="7620120" y="2666520"/>
            <a:ext cx="3045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6"/>
          <p:cNvSpPr/>
          <p:nvPr/>
        </p:nvSpPr>
        <p:spPr>
          <a:xfrm>
            <a:off x="7620120" y="2590920"/>
            <a:ext cx="274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8153280" y="23623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Y 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traight Arrow Connector 24"/>
          <p:cNvCxnSpPr/>
          <p:nvPr/>
        </p:nvCxnSpPr>
        <p:spPr>
          <a:xfrm flipH="1" flipV="1">
            <a:off x="8000280" y="2590560"/>
            <a:ext cx="3056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27"/>
          <p:cNvSpPr/>
          <p:nvPr/>
        </p:nvSpPr>
        <p:spPr>
          <a:xfrm>
            <a:off x="6480360" y="571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8"/>
          <p:cNvSpPr/>
          <p:nvPr/>
        </p:nvSpPr>
        <p:spPr>
          <a:xfrm>
            <a:off x="762336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C8F-C9EC-45BC-878E-9D6CBC7B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have an XX male or XY fem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is vide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hmi.org/biointeractive/media/meiosis-lg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x is XX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ex is XY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 reversal occurs in 1 in 20,000 birth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1DE-B3E6-4B83-95FF-747496D5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6858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10:  If you were a member of the Asian Games medal committee and Santhi’s karyotype revealed that she is XY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RY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She has female genitalia, allow her to keep her me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She is genetically male, take her meda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: Perform additional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torso_crop-1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C6B-11FA-43B3-BF14-C38360AEF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Q11: What do you think about requiring gender testing for female athletes in international compet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It should be banned because gender determination is so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: It is necessary to ensure an even playing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: It is necessary, but needs to include a large number of genetic tests to ensure fair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It should be required for all athletes, both male and fem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torso_crop-1"/>
          <p:cNvPicPr/>
          <p:nvPr/>
        </p:nvPicPr>
        <p:blipFill>
          <a:blip r:embed="rId1"/>
          <a:stretch/>
        </p:blipFill>
        <p:spPr>
          <a:xfrm>
            <a:off x="6934320" y="304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8F38-EA86-44AC-BCA7-C1619B16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324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Santhi Soundararaj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80880" y="2743200"/>
            <a:ext cx="8382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hi was stripped of her silver medal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onymous official in the know has reported that Ms. Soundarajan's tests revealed more Y chromosomes than are usually present in the genetic make-up of a female. No official statement has been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torso_crop-1"/>
          <p:cNvPicPr/>
          <p:nvPr/>
        </p:nvPicPr>
        <p:blipFill>
          <a:blip r:embed="rId1"/>
          <a:stretch/>
        </p:blipFill>
        <p:spPr>
          <a:xfrm>
            <a:off x="6858000" y="304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4811-5BC9-4627-B0E4-2B4EF8004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you know if someone is male or fem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251460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the person next to you and identify at least 5 characteristics to distinguish males from fe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5221-BD46-4690-A787-D026B462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 sex determined in human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tom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mary and secondary sexual characteristics - genitalia, body hair, pelvi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olog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and interaction of the sex organs including concentrations of sex hormones such as estrogen, progesterone, and testoste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1FE-3B35-41BC-9C8C-E071ECEF0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Q1: Imagine you are a member of the committee assigned to determine whether Santhi is female.  Here are possible results of the initial tests (we don’t know the real resul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6629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genitalia: 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s and pubic hair: 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menstrual cycle: 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is information, you conclude that Santhi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 Male                 B: 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ropped"/>
          <p:cNvPicPr/>
          <p:nvPr/>
        </p:nvPicPr>
        <p:blipFill>
          <a:blip r:embed="rId1"/>
          <a:stretch/>
        </p:blipFill>
        <p:spPr>
          <a:xfrm>
            <a:off x="7086600" y="2438280"/>
            <a:ext cx="154296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5814-9FA0-40B0-9B0D-D7042D55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re another way that sex is characterized in huma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omosom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possess two X chromosomes in each of their cells, whereas males have one X and one Y chromos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visualize chromos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are only visible when preparing for nuclear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s must be s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E8C9-396B-4813-B716-A65E3F65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an individual chromosome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hromosome"/>
          <p:cNvPicPr/>
          <p:nvPr/>
        </p:nvPicPr>
        <p:blipFill>
          <a:blip r:embed="rId1"/>
          <a:stretch/>
        </p:blipFill>
        <p:spPr>
          <a:xfrm>
            <a:off x="228600" y="1600200"/>
            <a:ext cx="4162320" cy="4919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343400" y="1904760"/>
            <a:ext cx="4495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nuclear division, DNA is tightly pa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romosome is composed of 2 chromat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diagram, the DNA has replicated (more on this la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2DFA-DC28-4992-8022-9B9223295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aryotyp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cture of chromosomes in a c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43434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iploid organisms, chromosomes come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i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, 23 pairs for hu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ke a karyo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learn.genetics.utah.edu/units/disorders/karyotype/karyotype.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279960" y="358128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Kary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karyotype"/>
          <p:cNvPicPr/>
          <p:nvPr/>
        </p:nvPicPr>
        <p:blipFill>
          <a:blip r:embed="rId1"/>
          <a:stretch/>
        </p:blipFill>
        <p:spPr>
          <a:xfrm>
            <a:off x="804960" y="1523880"/>
            <a:ext cx="7424640" cy="20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20:45:47Z</dcterms:created>
  <dc:creator>UB</dc:creator>
  <dc:description/>
  <dc:language>en-US</dc:language>
  <cp:lastModifiedBy>Ky</cp:lastModifiedBy>
  <dcterms:modified xsi:type="dcterms:W3CDTF">2015-12-04T20:19:38Z</dcterms:modified>
  <cp:revision>66</cp:revision>
  <dc:subject/>
  <dc:title>Cross-dressing or Crossing-over: Sex Testing of Women Athletes</dc:title>
</cp:coreProperties>
</file>