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C6A0-336E-4FD0-86B6-1B1AA6BA4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A3B1-45D2-431A-904D-848F2F783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bs.org/wgbh/nova/minutes/i_3008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source:  http://www.sbg.ac.at/ipk/avstudio/pierofun/ct/caulerp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cat.net/Final_Eradication_Report_California_2006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credit:  Photo by Rade de Villefranc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668B-FB85-47BC-AAD9-A531CF6CC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F2BE-C5AC-47F2-986F-F4A8DCC5C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et Image – University of Chicago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ress.uchicago.edu/presssite/metadata.epl?mode=synopsis&amp;bookkey=3714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E24-E266-4411-87D2-6C6D6F1C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383-5C85-4FCF-91BE-6CFE185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E88-A448-4EEB-952F-F7619F7B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A2B-D1BF-40EB-BF7A-E958AF5E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696-B1DA-44B8-A945-E4BBE7CB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406-3A65-4A0D-86CD-1F8D6D4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916-6EA2-46F0-A11D-12C34B7B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A7A-902E-4C0D-97E3-9192CAA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8E9-98A1-42CB-96F2-A3DACB46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7E5-D114-4581-9393-79DDE76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620-24AA-47FC-8A3A-6F870199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B10-886B-448A-91F6-D7BD1D79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8F93-FAC1-4656-BF7C-0C7EEFFC55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55B5-E8DB-4DF8-80CA-F3130DE1E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bs.org/wgbh/nova/minutes/i_3008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4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You Poured it </a:t>
            </a:r>
            <a:r>
              <a:rPr b="0" i="1" lang="en-US" sz="4800" spc="-1" strike="noStrike">
                <a:solidFill>
                  <a:srgbClr val="ffffff"/>
                </a:solidFill>
                <a:latin typeface="Calibri"/>
              </a:rPr>
              <a:t>Where?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 Case Study in Invasive Spec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648320"/>
            <a:ext cx="3733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ncy Bour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owa State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10608" b="0"/>
          <a:stretch/>
        </p:blipFill>
        <p:spPr>
          <a:xfrm>
            <a:off x="5133960" y="0"/>
            <a:ext cx="40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aulerpa taxifolia’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istory of inva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in aquariums – discovered in 198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late 80’s and 90’s, it expanded into the Mediterrane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fig1b"/>
          <p:cNvPicPr/>
          <p:nvPr/>
        </p:nvPicPr>
        <p:blipFill>
          <a:blip r:embed="rId1"/>
          <a:stretch/>
        </p:blipFill>
        <p:spPr>
          <a:xfrm>
            <a:off x="990720" y="2209680"/>
            <a:ext cx="7208640" cy="464832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87AA-087D-4C28-AEEF-5EE86D4A0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4: The Aquarium-Mediterranean strai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particularly invasive becaus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artificially selected to possess traits favorable to aquarium li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utbreak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result of human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natural predators that would normally control its spread.  Those predators are becoming endangered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also reproduces sexually, giving more diversity to the population of this particular strai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ulerpa taxifo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Countdown"/>
          <p:cNvGrpSpPr/>
          <p:nvPr/>
        </p:nvGrpSpPr>
        <p:grpSpPr>
          <a:xfrm>
            <a:off x="4724280" y="1600200"/>
            <a:ext cx="1079640" cy="825480"/>
            <a:chOff x="4724280" y="1600200"/>
            <a:chExt cx="1079640" cy="825480"/>
          </a:xfrm>
        </p:grpSpPr>
        <p:sp>
          <p:nvSpPr>
            <p:cNvPr id="90" name="CDScroll" hidden="1"/>
            <p:cNvSpPr/>
            <p:nvPr/>
          </p:nvSpPr>
          <p:spPr>
            <a:xfrm>
              <a:off x="4724280" y="160020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CDText" hidden="1"/>
            <p:cNvSpPr/>
            <p:nvPr/>
          </p:nvSpPr>
          <p:spPr>
            <a:xfrm>
              <a:off x="4915080" y="179064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5755-0786-46C9-AA8E-6EB4FE8DE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e invasion of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a minute to discuss this with your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043D-5362-4CB9-BC29-A209F1009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5: In terms of local ecosystems, why is the invasion of the Mediterranean strai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 problem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xins it makes will accumulate in the top predators due to bioamplif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poor food source, and herbivores will lose their native food su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clonal species, and clones are inherently dangerous to any eco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n’t photosynthesize, so won’t fix carbon dioxide.  Carbon dioxide levels will rise and contribute to global warm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Countdown"/>
          <p:cNvGrpSpPr/>
          <p:nvPr/>
        </p:nvGrpSpPr>
        <p:grpSpPr>
          <a:xfrm>
            <a:off x="4648320" y="1905120"/>
            <a:ext cx="1079280" cy="825480"/>
            <a:chOff x="4648320" y="1905120"/>
            <a:chExt cx="1079280" cy="825480"/>
          </a:xfrm>
        </p:grpSpPr>
        <p:sp>
          <p:nvSpPr>
            <p:cNvPr id="99" name="CDScroll" hidden="1"/>
            <p:cNvSpPr/>
            <p:nvPr/>
          </p:nvSpPr>
          <p:spPr>
            <a:xfrm>
              <a:off x="4648320" y="1905120"/>
              <a:ext cx="107928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DText" hidden="1"/>
            <p:cNvSpPr/>
            <p:nvPr/>
          </p:nvSpPr>
          <p:spPr>
            <a:xfrm>
              <a:off x="4838760" y="2095560"/>
              <a:ext cx="69804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914D-F126-4FC5-9744-01B11F58A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ther reasons this invasion is detrimenta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aces rich, diverse communities with a mono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outcompete endangered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ulerp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poor member of the first trophic level because it is tox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ons lead to alterations in the species richness and abundance of life in the commun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50B6-90DA-4607-8D74-0BBDBC36D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6: A coastal lagoon reports a small (2″ square) area of Mediterranean-strai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 From the list below, what is the most likely source of this veget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by farmers producing nitrate-rich runo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zone depletion leading to an increase in muta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nhouse gases changing the potential ecological niche for the seawe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ly treated urban waste entering the water su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use of antibiotics to treat viral infec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Countdown"/>
          <p:cNvGrpSpPr/>
          <p:nvPr/>
        </p:nvGrpSpPr>
        <p:grpSpPr>
          <a:xfrm>
            <a:off x="4572000" y="2209680"/>
            <a:ext cx="1079640" cy="825480"/>
            <a:chOff x="4572000" y="2209680"/>
            <a:chExt cx="1079640" cy="825480"/>
          </a:xfrm>
        </p:grpSpPr>
        <p:sp>
          <p:nvSpPr>
            <p:cNvPr id="108" name="CDScroll" hidden="1"/>
            <p:cNvSpPr/>
            <p:nvPr/>
          </p:nvSpPr>
          <p:spPr>
            <a:xfrm>
              <a:off x="4572000" y="220968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DText" hidden="1"/>
            <p:cNvSpPr/>
            <p:nvPr/>
          </p:nvSpPr>
          <p:spPr>
            <a:xfrm>
              <a:off x="4762800" y="240012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30C9-AAE4-4B86-B120-44B119076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CQ#7: Could Alex’s dumping the water from an aquarium transfer 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Caulerpa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to local waterway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f the local waterways are salt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not even if local waterways are salt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1357018"/>
          <p:cNvPicPr/>
          <p:nvPr/>
        </p:nvPicPr>
        <p:blipFill>
          <a:blip r:embed="rId1"/>
          <a:stretch/>
        </p:blipFill>
        <p:spPr>
          <a:xfrm>
            <a:off x="5867280" y="2133720"/>
            <a:ext cx="2876760" cy="3835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257800" y="617076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hel Woodfield, Merkel &amp; Associates, Inc., Bugwood.or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CB78-C87F-4D5D-A75D-54ACA073C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im Cleans the T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teps does he t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80AE-C5CD-46D4-8264-5BF685DD5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8: If you were Alex, would you report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umping incident to the local U.S. Fish and Wildlife Serv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81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8303-9463-43AB-BC41-F1FBDA10D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ex’s Assertion: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“It can’t happen here.”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your group, please review the 2002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cien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rticle about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339F-4163-48F9-888A-B2DDCBEE0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ease get into groups of 3-4 stu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ke 5 minutes to review your notes on the case and the 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NY Times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103C-F605-42B7-BD73-5BA987BA4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4560" y="41907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fornia Tries to Rub out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 of the Lago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J. Withgo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ol 295 March (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. 2201-220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6" descr="1357015"/>
          <p:cNvPicPr/>
          <p:nvPr/>
        </p:nvPicPr>
        <p:blipFill>
          <a:blip r:embed="rId1"/>
          <a:stretch/>
        </p:blipFill>
        <p:spPr>
          <a:xfrm>
            <a:off x="1981080" y="380880"/>
            <a:ext cx="5029200" cy="33465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2819520" y="3657600"/>
            <a:ext cx="525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hel Woodfield, Merkel &amp; Associates, Inc., Bugwood.or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04A-F2EB-4951-A70A-7A06B2B6E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2000, the Mediterranean strain of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as identified in Califor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southern California do about this invasive alga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BE45-9AA8-4DB7-B235-846EDCE76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Q9: When Rachel Woodfield started eliminat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California, the algae occupied approximately 10,000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Huntington Harbor and 200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Agua Hedionda Lagoon. From the graph below, predict how much of Huntington Harbor would be covered with the algae after two years if it was left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3200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,00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,00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0,00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7" descr="sigmoidal growth curve of Caulerpa.JPG"/>
          <p:cNvPicPr/>
          <p:nvPr/>
        </p:nvPicPr>
        <p:blipFill>
          <a:blip r:embed="rId1"/>
          <a:srcRect l="0" t="0" r="39999" b="374"/>
          <a:stretch/>
        </p:blipFill>
        <p:spPr>
          <a:xfrm>
            <a:off x="4724280" y="2895480"/>
            <a:ext cx="3505320" cy="37656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53C2-FDC7-4205-8041-C73CAA299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Q#10: You are in charge of an anti-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rogram in a coastal region, what would you do FIRST to control a small patch of the “killer seaweed” found at the bottom of a local fishing harb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e the local populace about the dangers of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the ecosys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n the sale and transport of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state you live 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at all affected areas with a bleach solution and remove the dead flora and fau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duce sea slugs to the affected areas.  The sea slugs will eat the seawe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 safe, non-invasive alternatives to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saltwater aquarium enthusiasts to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Countdown"/>
          <p:cNvGrpSpPr/>
          <p:nvPr/>
        </p:nvGrpSpPr>
        <p:grpSpPr>
          <a:xfrm>
            <a:off x="4572000" y="2209680"/>
            <a:ext cx="1079640" cy="825480"/>
            <a:chOff x="4572000" y="2209680"/>
            <a:chExt cx="1079640" cy="825480"/>
          </a:xfrm>
        </p:grpSpPr>
        <p:sp>
          <p:nvSpPr>
            <p:cNvPr id="138" name="CDScroll" hidden="1"/>
            <p:cNvSpPr/>
            <p:nvPr/>
          </p:nvSpPr>
          <p:spPr>
            <a:xfrm>
              <a:off x="4572000" y="220968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CDText" hidden="1"/>
            <p:cNvSpPr/>
            <p:nvPr/>
          </p:nvSpPr>
          <p:spPr>
            <a:xfrm>
              <a:off x="4762800" y="240012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564C-4ED1-4D65-93BF-9A261B0EF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did California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ova News Min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bs.org/wgbh/nova/minutes/i_3008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D3C5-5353-4CCE-9C33-A5E9023AD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lan Part I: Remove the Alg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fig5k"/>
          <p:cNvPicPr/>
          <p:nvPr/>
        </p:nvPicPr>
        <p:blipFill>
          <a:blip r:embed="rId1"/>
          <a:stretch/>
        </p:blipFill>
        <p:spPr>
          <a:xfrm>
            <a:off x="2438280" y="1143000"/>
            <a:ext cx="5562720" cy="524844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94F0-5436-40CD-B131-D465EFDC3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lan Part II: Educate the Popu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what the Southern Californi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ction Team (SCCAT) di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s found that 52% of southern California aquarium retailers sol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95% sold “live ro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islation was passed that banned sale, transport or ownership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ulerp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al brochures were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ng samples was ban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5293-FAD8-40CA-8E15-BFD0D53D2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CQ#11: Do you think this plan was successful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2AD-877C-4895-8209-AA2FFDAB5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57B-F4D5-4A6D-94C4-6043F062F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381880" cy="56862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3124080" y="914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’s what happe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12: If you were Alex, would you report the incident to the local U.S Fish and Wildlife Serv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C407-A6C1-4475-B350-E1FB67F96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http://lh3.ggpht.com/_BHl-FayqbJo/ROYHZ8UdABI/AAAAAAAACqo/2f_T_HPHcgs/s640/IMG_4419.JPG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226C-4DF7-4F62-B24C-626884441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did it take to eradicat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in Californ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7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, multi-disciplinary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A0E4-8703-42E1-92BF-1E03E1521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st of invasive species to the U.S. econom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137 billion spent each year for ALL invasiv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owners spend $500 million/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100 million spent to control aquatic weeds that clog wate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D515-16F0-4277-A47B-6EA65A271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Further Reading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419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iller Alga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Alexandre Meinesz and Daniel Simberloff, University of Chicago Press, 19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519228"/>
          <p:cNvPicPr/>
          <p:nvPr/>
        </p:nvPicPr>
        <p:blipFill>
          <a:blip r:embed="rId1"/>
          <a:stretch/>
        </p:blipFill>
        <p:spPr>
          <a:xfrm>
            <a:off x="4724280" y="1295280"/>
            <a:ext cx="3848400" cy="49532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7B2E-565F-46E0-B5F4-2B6BA7A96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ex is helping Jim m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m has an old, well-established saltwater aquarium that he is tearing down for the m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Jim is upstairs helping to pack his fish, Alex starts draining the tan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m comes down and catches Alex in the act of dipping a bucket in the tank and finds out that Alex had planned to dump the water into a nearby storm dr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m stops him “just in time” (or so he think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30AF-4475-4808-B2CC-23DD05CFA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CQ#1: Jim was horrified that Alex planned to dump the water down a storm drain because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ank had a serious fungal contamination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ter would enter the potable (drinkable) water system un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ank contains algae known to be invas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present in tank would damage the local plant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6B21-8C1F-4369-84C4-24FA0856D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2: In your opinion, which single trait of the Aquarium-Mediterranean strai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akes it particularly well desirable for use in public and private saltwater aquariu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stance to temperature fluctu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ght colo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reproductive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stance to herbivores (it produces toxi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Countdown"/>
          <p:cNvGrpSpPr/>
          <p:nvPr/>
        </p:nvGrpSpPr>
        <p:grpSpPr>
          <a:xfrm>
            <a:off x="4800600" y="2514600"/>
            <a:ext cx="1079640" cy="825480"/>
            <a:chOff x="4800600" y="2514600"/>
            <a:chExt cx="1079640" cy="825480"/>
          </a:xfrm>
        </p:grpSpPr>
        <p:sp>
          <p:nvSpPr>
            <p:cNvPr id="66" name="CDScroll" hidden="1"/>
            <p:cNvSpPr/>
            <p:nvPr/>
          </p:nvSpPr>
          <p:spPr>
            <a:xfrm>
              <a:off x="4800600" y="251460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CDText" hidden="1"/>
            <p:cNvSpPr/>
            <p:nvPr/>
          </p:nvSpPr>
          <p:spPr>
            <a:xfrm>
              <a:off x="4991400" y="270504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0" descr="http://www.forestryimages.org/images/768x512/1360003.jpg"/>
          <p:cNvPicPr/>
          <p:nvPr/>
        </p:nvPicPr>
        <p:blipFill>
          <a:blip r:embed="rId2"/>
          <a:stretch/>
        </p:blipFill>
        <p:spPr>
          <a:xfrm>
            <a:off x="5562720" y="28954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8D13-72B8-4027-8922-562EFE042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some of the traits that mak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articularly invas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619A-A725-4CCF-BFFA-50C381CD3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quarium-Mediterranean strain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Caulerpa taxifolia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n in saltwater aquariu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s that different from “in the wild”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s a tox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mpact would this have on aquatic herbivo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duces asexu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is this significa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st “reproductive uni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5 mm fra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it spre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1357009"/>
          <p:cNvPicPr/>
          <p:nvPr/>
        </p:nvPicPr>
        <p:blipFill>
          <a:blip r:embed="rId1"/>
          <a:stretch/>
        </p:blipFill>
        <p:spPr>
          <a:xfrm>
            <a:off x="5181480" y="37339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105520" y="64008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Credit Greig Peters, Regional Water Quality Control Board, Bugwood.or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D18C-7E71-4F45-B0A4-139698225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3: An advantage of asexual reproduction over sexual reproduction is that asexually reproducing species generally have a ___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mutational frequency from parental to F1 gener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genetic diversity within the pop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rate of reproduction than sexually reproducing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photosynthetic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resistance to fungal and viral pathog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Countdown"/>
          <p:cNvGrpSpPr/>
          <p:nvPr/>
        </p:nvGrpSpPr>
        <p:grpSpPr>
          <a:xfrm>
            <a:off x="4952880" y="2286000"/>
            <a:ext cx="1079640" cy="825480"/>
            <a:chOff x="4952880" y="2286000"/>
            <a:chExt cx="1079640" cy="825480"/>
          </a:xfrm>
        </p:grpSpPr>
        <p:sp>
          <p:nvSpPr>
            <p:cNvPr id="80" name="CDScroll" hidden="1"/>
            <p:cNvSpPr/>
            <p:nvPr/>
          </p:nvSpPr>
          <p:spPr>
            <a:xfrm>
              <a:off x="4952880" y="228600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CDText" hidden="1"/>
            <p:cNvSpPr/>
            <p:nvPr/>
          </p:nvSpPr>
          <p:spPr>
            <a:xfrm>
              <a:off x="5143680" y="247644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28EF-1FE3-4215-B785-2D49D23B5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5:23:52Z</dcterms:created>
  <dc:creator>Nancy Maroushek Boury</dc:creator>
  <dc:description/>
  <dc:language>en-US</dc:language>
  <cp:lastModifiedBy>UB</cp:lastModifiedBy>
  <dcterms:modified xsi:type="dcterms:W3CDTF">2010-12-01T23:26:16Z</dcterms:modified>
  <cp:revision>44</cp:revision>
  <dc:subject/>
  <dc:title>Caulerpa taxifolia is a ___. </dc:title>
</cp:coreProperties>
</file>