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1D3D-D484-422E-9811-456BC666A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BE99-384E-406C-833C-2CA9FCDD8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bs.org/wgbh/nova/minutes/i_3008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source:  http://www.sbg.ac.at/ipk/avstudio/pierofun/ct/caulerp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cat.net/Final_Eradication_Report_California_2006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credit:  Photo by Rade de Villefranc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B6E-8629-425C-84D3-B06927BD8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FAB0-907E-4DF4-A5E2-D281E3890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et Image – University of Chicago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ress.uchicago.edu/presssite/metadata.epl?mode=synopsis&amp;bookkey=371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339-8906-41C5-B348-C0699248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360-34EE-4DA9-AC47-C233647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FA9-7844-4665-B92B-075FD9A4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3FF-8350-4F19-BBC1-5BD10228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9BA-1D1B-4BD3-A180-A3240F3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C03-EB94-4951-B048-A8D07569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3D7-E63B-44CC-9F84-5392604A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413-21C6-4683-9A65-B1AA7CEF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E15-92D7-429E-8C23-D22CB806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F9A-C27D-4A40-946A-7E4E774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202-92C7-4AA7-BCD0-4E1ED61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0BC-668B-43E1-986E-05460E3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4F73-3405-42AE-8FAB-59640B8506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4784-6092-41F8-9E6F-597335C2E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bs.org/wgbh/nova/minutes/i_3008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4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You Poured it </a:t>
            </a:r>
            <a:r>
              <a:rPr b="0" i="1" lang="en-US" sz="4800" spc="-1" strike="noStrike">
                <a:solidFill>
                  <a:srgbClr val="ffffff"/>
                </a:solidFill>
                <a:latin typeface="Calibri"/>
              </a:rPr>
              <a:t>Where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 Case Study in Invasive Spec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6483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ncy Bour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owa State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10608" b="0"/>
          <a:stretch/>
        </p:blipFill>
        <p:spPr>
          <a:xfrm>
            <a:off x="5133960" y="0"/>
            <a:ext cx="40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aulerpa taxifolia’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istory of inva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aquariums – discovered in 198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late 80’s and 90’s, it expanded into the Mediterrane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fig1b"/>
          <p:cNvPicPr/>
          <p:nvPr/>
        </p:nvPicPr>
        <p:blipFill>
          <a:blip r:embed="rId1"/>
          <a:stretch/>
        </p:blipFill>
        <p:spPr>
          <a:xfrm>
            <a:off x="990720" y="2209680"/>
            <a:ext cx="7208640" cy="464832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D8BC-70E3-4942-9C8C-33E84109B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4: The Aquarium-Mediterranean strai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particularly invasive becaus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artificially selected to possess traits favorable to aquarium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utbreak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result of human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natural predators that would normally control its spread.  Those predators are becoming endangered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also reproduces sexually, giving more diversity to the population of this particular strain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 taxifol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Countdown"/>
          <p:cNvGrpSpPr/>
          <p:nvPr/>
        </p:nvGrpSpPr>
        <p:grpSpPr>
          <a:xfrm>
            <a:off x="4724280" y="1600200"/>
            <a:ext cx="1079640" cy="825480"/>
            <a:chOff x="4724280" y="1600200"/>
            <a:chExt cx="1079640" cy="825480"/>
          </a:xfrm>
        </p:grpSpPr>
        <p:sp>
          <p:nvSpPr>
            <p:cNvPr id="90" name="CDScroll" hidden="1"/>
            <p:cNvSpPr/>
            <p:nvPr/>
          </p:nvSpPr>
          <p:spPr>
            <a:xfrm>
              <a:off x="4724280" y="160020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DText" hidden="1"/>
            <p:cNvSpPr/>
            <p:nvPr/>
          </p:nvSpPr>
          <p:spPr>
            <a:xfrm>
              <a:off x="4915080" y="179064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CABF-4219-4559-B256-623F7E905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e invasion of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a minute to discuss this with your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2F2-800D-4381-9942-1315C2BCD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5: In terms of local ecosystems, why is the invasion of the Mediterranean strai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 problem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xins it makes will accumulate in the top predators due to bioamplif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poor food source, and herbivores will lose their native food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clonal species, and clones are inherently dangerous to any eco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n’t photosynthesize, so won’t fix carbon dioxide.  Carbon dioxide levels will rise and contribute to global war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Countdown"/>
          <p:cNvGrpSpPr/>
          <p:nvPr/>
        </p:nvGrpSpPr>
        <p:grpSpPr>
          <a:xfrm>
            <a:off x="4648320" y="1905120"/>
            <a:ext cx="1079280" cy="825480"/>
            <a:chOff x="4648320" y="1905120"/>
            <a:chExt cx="1079280" cy="825480"/>
          </a:xfrm>
        </p:grpSpPr>
        <p:sp>
          <p:nvSpPr>
            <p:cNvPr id="99" name="CDScroll" hidden="1"/>
            <p:cNvSpPr/>
            <p:nvPr/>
          </p:nvSpPr>
          <p:spPr>
            <a:xfrm>
              <a:off x="4648320" y="1905120"/>
              <a:ext cx="107928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DText" hidden="1"/>
            <p:cNvSpPr/>
            <p:nvPr/>
          </p:nvSpPr>
          <p:spPr>
            <a:xfrm>
              <a:off x="4838760" y="2095560"/>
              <a:ext cx="69804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864-7638-4668-9532-47C9913C3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ther reasons this invasion is detrimenta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aces rich, diverse communities with a mono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outcompete endangered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ulerp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poor member of the first trophic level because it is tox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asions lead to alterations in the species richness and abundance of life in the commu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4A3-ABBF-4913-AA74-386B6160F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6: A coastal lagoon reports a small (2″ square) area of Mediterranean-stra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 From the list below, what is the most likely source of this veget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by farmers producing nitrate-rich runo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zone depletion leading to an increase in muta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house gases changing the potential ecological niche for the seawe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ly treated urban waste entering the water su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use of antibiotics to treat viral infec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Countdown"/>
          <p:cNvGrpSpPr/>
          <p:nvPr/>
        </p:nvGrpSpPr>
        <p:grpSpPr>
          <a:xfrm>
            <a:off x="4572000" y="2209680"/>
            <a:ext cx="1079640" cy="825480"/>
            <a:chOff x="4572000" y="2209680"/>
            <a:chExt cx="1079640" cy="825480"/>
          </a:xfrm>
        </p:grpSpPr>
        <p:sp>
          <p:nvSpPr>
            <p:cNvPr id="108" name="CDScroll" hidden="1"/>
            <p:cNvSpPr/>
            <p:nvPr/>
          </p:nvSpPr>
          <p:spPr>
            <a:xfrm>
              <a:off x="4572000" y="220968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DText" hidden="1"/>
            <p:cNvSpPr/>
            <p:nvPr/>
          </p:nvSpPr>
          <p:spPr>
            <a:xfrm>
              <a:off x="4762800" y="240012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E7CA-0CC2-40F9-B7D5-6273F16C3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CQ#7: Could Alex’s dumping the water from an aquarium transfer 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Caulerpa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to local waterway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f the local waterways are salt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not even if local waterways are salt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1357018"/>
          <p:cNvPicPr/>
          <p:nvPr/>
        </p:nvPicPr>
        <p:blipFill>
          <a:blip r:embed="rId1"/>
          <a:stretch/>
        </p:blipFill>
        <p:spPr>
          <a:xfrm>
            <a:off x="5867280" y="2133720"/>
            <a:ext cx="2876760" cy="3835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257800" y="617076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hel Woodfield, Merkel &amp; Associates, Inc., Bugwood.o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83E1-9698-4540-AE6C-F2A9ED23E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im Cleans the T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eps does he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88DA-76E3-4864-9C72-1C6EEB47E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8: If you were Alex, would you report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umping incident to the local U.S. Fish and Wildlife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81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DD7-D7EA-413D-B070-92E67523F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ex’s Assertion: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“It can’t happen here.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your group, please review the 2002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rticle about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0BA-06A6-4ABF-A00D-0FB1403C1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ease get into groups of 3-4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ke 5 minutes to review your notes on the case and the 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NY Times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DBDD-08A7-4FC2-AD44-2FFB6935A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4560" y="41907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 Tries to Rub out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 of the Lago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J. Withgo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ol 295 March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. 2201-22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1357015"/>
          <p:cNvPicPr/>
          <p:nvPr/>
        </p:nvPicPr>
        <p:blipFill>
          <a:blip r:embed="rId1"/>
          <a:stretch/>
        </p:blipFill>
        <p:spPr>
          <a:xfrm>
            <a:off x="1981080" y="380880"/>
            <a:ext cx="5029200" cy="3346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2819520" y="3657600"/>
            <a:ext cx="525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hel Woodfield, Merkel &amp; Associates, Inc., Bugwood.or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C9A7-C5E0-44F3-BE6F-A1B42CB41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2000, the Mediterranean strain of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as identified in Californ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southern California do about this invasive alga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2B6-280C-415F-B490-E9B373E00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Q9: When Rachel Woodfield started eliminat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California, the algae occupied approximately 10,00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Huntington Harbor and 20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Agua Hedionda Lagoon. From the graph below, predict how much of Huntington Harbor would be covered with the algae after two years if it was left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3200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,00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,00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0,00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7" descr="sigmoidal growth curve of Caulerpa.JPG"/>
          <p:cNvPicPr/>
          <p:nvPr/>
        </p:nvPicPr>
        <p:blipFill>
          <a:blip r:embed="rId1"/>
          <a:srcRect l="0" t="0" r="39999" b="374"/>
          <a:stretch/>
        </p:blipFill>
        <p:spPr>
          <a:xfrm>
            <a:off x="4724280" y="2895480"/>
            <a:ext cx="3505320" cy="37656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C33B-DD19-440E-9789-BE5BC7561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Q#10: You are in charge of an anti-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rogram in a coastal region, what would you do FIRST to control a small patch of the “killer seaweed” found at the bottom of a local fishing harb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e the local populace about the dangers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the eco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n the sale and transport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state you live 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 all affected areas with a bleach solution and remove the dead flora and fau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e sea slugs to the affected areas.  The sea slugs will eat the seawe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 safe, non-invasive alternatives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saltwater aquarium enthusiasts to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Countdown"/>
          <p:cNvGrpSpPr/>
          <p:nvPr/>
        </p:nvGrpSpPr>
        <p:grpSpPr>
          <a:xfrm>
            <a:off x="4572000" y="2209680"/>
            <a:ext cx="1079640" cy="825480"/>
            <a:chOff x="4572000" y="2209680"/>
            <a:chExt cx="1079640" cy="825480"/>
          </a:xfrm>
        </p:grpSpPr>
        <p:sp>
          <p:nvSpPr>
            <p:cNvPr id="138" name="CDScroll" hidden="1"/>
            <p:cNvSpPr/>
            <p:nvPr/>
          </p:nvSpPr>
          <p:spPr>
            <a:xfrm>
              <a:off x="4572000" y="220968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DText" hidden="1"/>
            <p:cNvSpPr/>
            <p:nvPr/>
          </p:nvSpPr>
          <p:spPr>
            <a:xfrm>
              <a:off x="4762800" y="240012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D83-7E23-46AA-899C-C1CF174F9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did California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ova News Min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bs.org/wgbh/nova/minutes/i_3008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809B-82BD-4972-9ADD-D3B74A429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lan Part I: Remove the Alg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ig5k"/>
          <p:cNvPicPr/>
          <p:nvPr/>
        </p:nvPicPr>
        <p:blipFill>
          <a:blip r:embed="rId1"/>
          <a:stretch/>
        </p:blipFill>
        <p:spPr>
          <a:xfrm>
            <a:off x="2438280" y="1143000"/>
            <a:ext cx="5562720" cy="524844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9DCB-EE16-44F0-AA71-8AEB4F5FF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lan Part II: Educate the Popul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at the Southern Californi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ction Team (SCCAT) di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s found that 52% of southern California aquarium retailers sol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95% sold “live ro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slation was passed that banned sale, transport or ownership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uler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al brochures were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ng samples was ban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7B3-B54C-4D8E-830C-83CEA9A2C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CQ#11: Do you think this plan was successful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BA3A-2B5F-44EC-9F7A-830E9DA0B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633-68C0-4961-999F-63FD69436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81880" cy="5686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3124080" y="9144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’s what happe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12: If you were Alex, would you report the incident to the local U.S Fish and Wildlife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BA97-6D78-4C52-9464-DD1FB6044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http://lh3.ggpht.com/_BHl-FayqbJo/ROYHZ8UdABI/AAAAAAAACqo/2f_T_HPHcgs/s640/IMG_4419.JPG"/>
          <p:cNvPicPr/>
          <p:nvPr/>
        </p:nvPicPr>
        <p:blipFill>
          <a:blip r:embed="rId1"/>
          <a:stretch/>
        </p:blipFill>
        <p:spPr>
          <a:xfrm>
            <a:off x="1066680" y="11430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039-1FCC-47E7-B59A-4E45D11D0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did it take to eradicat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in Californ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7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, multi-disciplinary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9604-7E6D-45E9-894D-E3F79971C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st of invasive species to the U.S. econom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137 billion spent each year for ALL invasiv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owners spend $500 million/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100 million spent to control aquatic weeds that clog wate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6C1A-740C-4144-A49C-53D7A3AEC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Further Reading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ller Alga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Alexandre Meinesz and Daniel Simberloff, University of Chicago Press, 19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519228"/>
          <p:cNvPicPr/>
          <p:nvPr/>
        </p:nvPicPr>
        <p:blipFill>
          <a:blip r:embed="rId1"/>
          <a:stretch/>
        </p:blipFill>
        <p:spPr>
          <a:xfrm>
            <a:off x="4724280" y="1295280"/>
            <a:ext cx="3848400" cy="49532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09FF-0667-41B2-8EA5-EB6F91C58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ex is helping Jim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has an old, well-established saltwater aquarium that he is tearing down for the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Jim is upstairs helping to pack his fish, Alex starts draining the tan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comes down and catches Alex in the act of dipping a bucket in the tank and finds out that Alex had planned to dump the water into a nearby storm dr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m stops him “just in time” (or so he thin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AB7-9FA5-4B09-8834-82A189740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CQ#1: Jim was horrified that Alex planned to dump the water down a storm drain becaus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ank had a serious fungal contamination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ter would enter the potable (drinkable) water system unchang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ank contains algae known to be invas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present in tank would damage the local plant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C411-A2CD-4A80-8D63-64ED1DC20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2: In your opinion, which single trait of the Aquarium-Mediterranean strai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ulerpa taxifol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kes it particularly well desirable for use in public and private saltwater aquariu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ance to temperature fluctu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ght col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reproductive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ance to herbivores (it produces toxi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untdown"/>
          <p:cNvGrpSpPr/>
          <p:nvPr/>
        </p:nvGrpSpPr>
        <p:grpSpPr>
          <a:xfrm>
            <a:off x="4800600" y="2514600"/>
            <a:ext cx="1079640" cy="825480"/>
            <a:chOff x="4800600" y="2514600"/>
            <a:chExt cx="1079640" cy="825480"/>
          </a:xfrm>
        </p:grpSpPr>
        <p:sp>
          <p:nvSpPr>
            <p:cNvPr id="66" name="CDScroll" hidden="1"/>
            <p:cNvSpPr/>
            <p:nvPr/>
          </p:nvSpPr>
          <p:spPr>
            <a:xfrm>
              <a:off x="4800600" y="251460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CDText" hidden="1"/>
            <p:cNvSpPr/>
            <p:nvPr/>
          </p:nvSpPr>
          <p:spPr>
            <a:xfrm>
              <a:off x="4991400" y="270504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0" descr="http://www.forestryimages.org/images/768x512/1360003.jpg"/>
          <p:cNvPicPr/>
          <p:nvPr/>
        </p:nvPicPr>
        <p:blipFill>
          <a:blip r:embed="rId2"/>
          <a:stretch/>
        </p:blipFill>
        <p:spPr>
          <a:xfrm>
            <a:off x="5562720" y="28954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7EE-13AF-4593-981D-331A734B2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some of the traits that mak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aulerp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articularly invas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75F3-8807-4B97-892D-A52534529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quarium-Mediterranean strain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Caulerpa taxifolia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n in saltwater aquariu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is that different from “in the wild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a tox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mpact would this have on aquatic herbiv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oduces asexu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is this significa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st “reproductive uni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5 mm fra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it sprea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1357009"/>
          <p:cNvPicPr/>
          <p:nvPr/>
        </p:nvPicPr>
        <p:blipFill>
          <a:blip r:embed="rId1"/>
          <a:stretch/>
        </p:blipFill>
        <p:spPr>
          <a:xfrm>
            <a:off x="5181480" y="37339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105520" y="64008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Credit Greig Peters, Regional Water Quality Control Board, Bugwood.or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25AB-ADE8-4529-8176-F8A7351E1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Q#3: An advantage of asexual reproduction over sexual reproduction is that asexually reproducing species generally have a ___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mutational frequency from parental to F1 gener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genetic diversity within the pop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rate of reproduction than sexually reproducing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photosynthetic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r resistance to fungal and viral pathog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Countdown"/>
          <p:cNvGrpSpPr/>
          <p:nvPr/>
        </p:nvGrpSpPr>
        <p:grpSpPr>
          <a:xfrm>
            <a:off x="4952880" y="2286000"/>
            <a:ext cx="1079640" cy="825480"/>
            <a:chOff x="4952880" y="2286000"/>
            <a:chExt cx="1079640" cy="825480"/>
          </a:xfrm>
        </p:grpSpPr>
        <p:sp>
          <p:nvSpPr>
            <p:cNvPr id="80" name="CDScroll" hidden="1"/>
            <p:cNvSpPr/>
            <p:nvPr/>
          </p:nvSpPr>
          <p:spPr>
            <a:xfrm>
              <a:off x="4952880" y="2286000"/>
              <a:ext cx="1079640" cy="8254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CDText" hidden="1"/>
            <p:cNvSpPr/>
            <p:nvPr/>
          </p:nvSpPr>
          <p:spPr>
            <a:xfrm>
              <a:off x="5143680" y="2476440"/>
              <a:ext cx="6984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Old English Text MT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83E-8EC5-4F4D-8467-226922A88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5:23:52Z</dcterms:created>
  <dc:creator>Nancy Maroushek Boury</dc:creator>
  <dc:description/>
  <dc:language>en-US</dc:language>
  <cp:lastModifiedBy>UB</cp:lastModifiedBy>
  <dcterms:modified xsi:type="dcterms:W3CDTF">2010-12-01T23:26:16Z</dcterms:modified>
  <cp:revision>44</cp:revision>
  <dc:subject/>
  <dc:title>Caulerpa taxifolia is a ___. </dc:title>
</cp:coreProperties>
</file>