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6C86-4F0F-455A-925B-18121DEF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F800-9284-48EE-8612-3B21113C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CE71-FF58-4183-A20B-DD45770F9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B8AC-6B33-4DF3-B39A-13BF21CB1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3EEE-C2B4-4072-AD83-52AA6FA11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21D0-77CC-4F66-8820-675B9BC0A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7099-F3C4-4716-AA36-6533C2648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73C3-725F-4FA5-8A09-B720ABA85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1294-2CD4-4750-B6E1-31168642B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C24E-BE1E-48CC-9C5E-C13913DE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2B3-87F3-4A55-9972-E92D0BF1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F31-BF2B-4D95-93CB-C0B81112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0E4-EBE0-4FA3-820B-686C7CAF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A91-2705-4473-91D4-D4727048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555-B751-4219-9933-107F3CEF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1EF-505F-4668-A127-A2001018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10C-4942-4492-B35D-CD9DF28F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F6E-416D-4C55-A1ED-9B5B9F66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1EB-711E-4388-AA5A-A0931AAB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22F-52E6-409C-80E3-27E2F96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921-4940-4BFD-B25D-8395019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B32-F268-4D2F-9143-255831FD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1978-F385-47F5-BD9C-45963EC289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27B7-D621-4176-84E4-C3D2C98AA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1/Ovarian_serous_adenocarcinoma_%283%29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1/12/Ovary_cystoadenoma_mucinous_1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cience.education.nih.gov/supplements/nih1/cancer/activities/activity2_animation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7E13-CFC0-4D29-83A3-E198AF143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lbertus Medium"/>
              </a:rPr>
              <a:t>But I’m Too Young!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ase Study of Ovarian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cy A. Rice, Department of Biology, Western Kentucky University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uno Borsari, Biology Department, Winona Stat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6C56-74A3-4336-AD37-8C480B225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Q3: Normal CA-125 levels are indicated by values of 35 U/ml or less. Abby’s CA-125 levels taken at two different times are indicated below. Is Abby likely to have a cyst or can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5"/>
          <p:cNvGraphicFramePr/>
          <p:nvPr/>
        </p:nvGraphicFramePr>
        <p:xfrm>
          <a:off x="2676600" y="2790720"/>
          <a:ext cx="6467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6"/>
          <p:cNvSpPr/>
          <p:nvPr/>
        </p:nvSpPr>
        <p:spPr>
          <a:xfrm>
            <a:off x="533520" y="35812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545C-ACF3-4419-BEFF-7920E014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04920" y="31410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ing for Surg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surgery, Dr. Allen came in to talk to Abby about her test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really sorry, but your CA125 level is high and it looks like your ovary actually does not have a cyst, but instead has a tumor. It is best now to go ahead and remove both of your ovaries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Allen explained she had consulted with a pathologist to verify the diagnosis.  She pulled out a brochure tit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arian Can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pened it to show Abby three photographs.  One showed normal ovarian tissue; the other two showed benign and malignant ovarian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E41E-EC64-43E4-9111-4EFD29974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age:Ovarian serous adenocarcinoma (3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95480"/>
            <a:ext cx="3200400" cy="241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95288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arian adenocarcinoma (malign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Image:Ovary cystoadenoma mucinous 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2895480"/>
            <a:ext cx="3200400" cy="2414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1828800" y="533412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ary cystoadenoma  (ben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80040" y="106668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ovarian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200400" y="533520"/>
            <a:ext cx="28195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2EBE-C427-4956-A91B-C26FBF5F7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enetics of ovarian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by had already learned a lot about ovarian cancer so she followed Dr. Allen’s expla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only 20 years old. How did I get ovarian cancer? Isn’t this a disease of older wom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ovarian cancer does affect older women. However, you may have a genetic predisposition for it.  Cancer cells have mutations in specific genes that regulate cell division. When they are mutated, cell division becomes uncontrollable,” the doctor expl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earned about those genes on the Internet! Is it true that some ovarian cancers are associated with mutated copies of genes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CA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BRCA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” asked Ab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” said Dr. Allen. “You likely were born with one a mutated copy of these genes already. A mutation of the second copy could have occurred more recently, triggering the development of your tumo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DA58-8F4B-43C8-9503-80E618931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4: Why does cancer primarily affect older people rather than young peop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he immune system of older people is not as effective in distinguishing normal cells from cancer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: Because older people have been exposed to more carcinoge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cancer develops after multiple mutations have occurred which takes years to happ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: None of the abo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69DD-F3E4-4D81-9968-3CE92D551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cer is a genetic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arises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cum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genetic changes (mutat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ncers have a minimum of 6-9 different genes mu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hereditary disease – we do not pass on cancer to offsp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inherit dispositions (susceptibility) to can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genes that are mutated in cancer are involve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ting the cell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D0AF-2692-4FEA-A2D3-1551B8BFD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view: The cell cycle has four phases and controls cell divi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ap or growth phases (G1 and G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hase - DNA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phase - 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2666880" y="2209680"/>
            <a:ext cx="304920" cy="2362320"/>
          </a:xfrm>
          <a:custGeom>
            <a:avLst/>
            <a:gdLst>
              <a:gd name="textAreaLeft" fmla="*/ 0 w 304920"/>
              <a:gd name="textAreaRight" fmla="*/ 11016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971800" y="3149640"/>
            <a:ext cx="155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ter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Cell_cycle"/>
          <p:cNvPicPr/>
          <p:nvPr/>
        </p:nvPicPr>
        <p:blipFill>
          <a:blip r:embed="rId1"/>
          <a:stretch/>
        </p:blipFill>
        <p:spPr>
          <a:xfrm>
            <a:off x="4572000" y="1752480"/>
            <a:ext cx="426708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8D65-0C54-450A-84BF-C536640CD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ell Cycle Checkpo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checkpoints in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1-S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2-M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 M phase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points are where the cell assesses whether conditions are favorable for cell di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environment is not favorable (for example, when the cell’s DNA is damaged), a protein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5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top the cell cycle and cause the cell to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roteins that regulate the cell cycle are mutated or absent, cells can divide uncontrollably, leading to ca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ell_cycle"/>
          <p:cNvPicPr/>
          <p:nvPr/>
        </p:nvPicPr>
        <p:blipFill>
          <a:blip r:embed="rId1"/>
          <a:stretch/>
        </p:blipFill>
        <p:spPr>
          <a:xfrm>
            <a:off x="4572000" y="1752480"/>
            <a:ext cx="426708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C39D-6A8F-409F-8F0A-8940E356D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5: What would you expect cells to be like if they did not have properly functioning p53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: The absence of p53 inside cells would cause them to divide more rapid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: The absence of p53 could cause cells to replicate with damaged DNA that could ultimately lead to canc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: The absence of p53 could cause cells to skip mitosis (M phase) and stay in S phase of the cell cyc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: The absence of p53 would have no effect on the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6485-EC17-4505-908C-F35A27CC1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mor suppressors and onco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utations in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oncogen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tumor suppressor gen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can lead to canc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cience.education.nih.gov/supplements/nih1/cancer/activities/activity2_animations.ht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(Animation #5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0D4C-629B-4BE3-874A-B8BECCDE7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by is Sick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ew of the Story So Fa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y has been having abdominal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has gone to see Dr. 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ltrasound has indicated a mass on her right o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preparing to have the mass and ovary removed surg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5E38-5221-4CCF-9C96-F8A9F3BB9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6: The BRCA1 and BRAC2 genes that may be mutated in Abby’s cells would be conside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2666880"/>
            <a:ext cx="4343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n onco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A tumor suppressor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BRCA%201"/>
          <p:cNvPicPr/>
          <p:nvPr/>
        </p:nvPicPr>
        <p:blipFill>
          <a:blip r:embed="rId1"/>
          <a:stretch/>
        </p:blipFill>
        <p:spPr>
          <a:xfrm>
            <a:off x="4952880" y="22860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93FD-8FB3-43ED-90BB-3708FA067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Benign to Malig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ells divide too quickly and can leave the original site and enter the blood, lymph, or tissu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ells divide a set number (60-70) of times, then they stop di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usually limits benign tumors to small si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ells can divide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6BA6-7852-4D8F-A532-85A43FB73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Q7: How do cancer cells travel through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: Cancer travels through the body by way of sexual intercourse between a healthy person and one affected by the dise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: The circulatory system only is responsible for relocating cancer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: The lymphatic system collects fluids from capillaries and with it cancer cells, which are then delivered by the circulatory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: They are moved around on neurons throughout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6A58-29C8-4313-BCDB-1840901E8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ow_Metastasis_Occurs"/>
          <p:cNvPicPr/>
          <p:nvPr/>
        </p:nvPicPr>
        <p:blipFill>
          <a:blip r:embed="rId1"/>
          <a:stretch/>
        </p:blipFill>
        <p:spPr>
          <a:xfrm>
            <a:off x="3200400" y="609480"/>
            <a:ext cx="5672160" cy="378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Lymphatic_system"/>
          <p:cNvPicPr/>
          <p:nvPr/>
        </p:nvPicPr>
        <p:blipFill>
          <a:blip r:embed="rId2"/>
          <a:stretch/>
        </p:blipFill>
        <p:spPr>
          <a:xfrm>
            <a:off x="380880" y="990720"/>
            <a:ext cx="2694240" cy="3124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533520" y="44956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ssels of the circulatory and lymphatic systems provide a pipeline for cancer cells to move to other locations in the body through a proces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807C-D56E-4851-8D91-C00A2E7C6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by’s treatment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Allen came to see Abby after her surg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went really well. Now we need to think about preventing this from ever coming back. Typically we use a combination of various types of therapy, which includes radiation and chemotherap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ses high-energy rays to kill cancer cells. A large machine directs radiation at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mothera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ses anticancer drugs to kill cancer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017F-1994-4956-A2EB-041C36644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ypical Ovarian Cancer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ommon chemotherapy for ovarian cancer is Taxol, which was first isolated from Yew bark in 1962 by the National Cancer Institutes (NC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ol blocks a cell's ability to break down the mitotic spindle during mitosis. With the spindle still in place, the cell can't divide into daughter cells and therefore the cancer can’t gr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retrieve"/>
          <p:cNvPicPr/>
          <p:nvPr/>
        </p:nvPicPr>
        <p:blipFill>
          <a:blip r:embed="rId1"/>
          <a:stretch/>
        </p:blipFill>
        <p:spPr>
          <a:xfrm>
            <a:off x="5711760" y="1600200"/>
            <a:ext cx="2898720" cy="43434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6327000" y="5943600"/>
            <a:ext cx="17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xus Brevifo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DC92-C388-4236-9F1E-285B3F93E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cer Dete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detection and treatment of cancer greatly increase the odds of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knowing the warning signs of cancer is important to h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6"/>
          <p:cNvGrpSpPr/>
          <p:nvPr/>
        </p:nvGrpSpPr>
        <p:grpSpPr>
          <a:xfrm>
            <a:off x="4876920" y="304920"/>
            <a:ext cx="4114800" cy="6677640"/>
            <a:chOff x="4876920" y="304920"/>
            <a:chExt cx="4114800" cy="6677640"/>
          </a:xfrm>
        </p:grpSpPr>
        <p:sp>
          <p:nvSpPr>
            <p:cNvPr id="152" name="Text Box 7"/>
            <p:cNvSpPr/>
            <p:nvPr/>
          </p:nvSpPr>
          <p:spPr>
            <a:xfrm>
              <a:off x="4952880" y="304920"/>
              <a:ext cx="403884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 hange in bowel or bladder hab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sore that does not h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 nusual bleeding or dischar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thickening or lu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 ndigestion or difficulty swallow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bvious change in wart or mo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agging cough or hoarsen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5"/>
            <p:cNvGrpSpPr/>
            <p:nvPr/>
          </p:nvGrpSpPr>
          <p:grpSpPr>
            <a:xfrm>
              <a:off x="4876920" y="416160"/>
              <a:ext cx="380880" cy="5981760"/>
              <a:chOff x="4876920" y="416160"/>
              <a:chExt cx="380880" cy="5981760"/>
            </a:xfrm>
          </p:grpSpPr>
          <p:sp>
            <p:nvSpPr>
              <p:cNvPr id="154" name="WordArt 8"/>
              <p:cNvSpPr txBox="1"/>
              <p:nvPr/>
            </p:nvSpPr>
            <p:spPr>
              <a:xfrm>
                <a:off x="4876920" y="416160"/>
                <a:ext cx="38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C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5" name="WordArt 9"/>
              <p:cNvSpPr txBox="1"/>
              <p:nvPr/>
            </p:nvSpPr>
            <p:spPr>
              <a:xfrm>
                <a:off x="4876920" y="2244960"/>
                <a:ext cx="38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U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6" name="WordArt 10"/>
              <p:cNvSpPr txBox="1"/>
              <p:nvPr/>
            </p:nvSpPr>
            <p:spPr>
              <a:xfrm>
                <a:off x="4876920" y="3235680"/>
                <a:ext cx="380880" cy="571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T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7" name="WordArt 11"/>
              <p:cNvSpPr txBox="1"/>
              <p:nvPr/>
            </p:nvSpPr>
            <p:spPr>
              <a:xfrm>
                <a:off x="4929120" y="4073760"/>
                <a:ext cx="22536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I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8" name="WordArt 12"/>
              <p:cNvSpPr txBox="1"/>
              <p:nvPr/>
            </p:nvSpPr>
            <p:spPr>
              <a:xfrm>
                <a:off x="4876920" y="4988160"/>
                <a:ext cx="38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O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9" name="WordArt 13"/>
              <p:cNvSpPr txBox="1"/>
              <p:nvPr/>
            </p:nvSpPr>
            <p:spPr>
              <a:xfrm>
                <a:off x="4876920" y="5826240"/>
                <a:ext cx="38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N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60" name="WordArt 14"/>
              <p:cNvSpPr txBox="1"/>
              <p:nvPr/>
            </p:nvSpPr>
            <p:spPr>
              <a:xfrm>
                <a:off x="4876920" y="1330560"/>
                <a:ext cx="38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BA6E-8F75-443E-B854-8A203692F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8: Can surgery successfully cure a cancer that has metastasiz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all body cells are dividing uncontrolla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it could remove all cells with defective cell-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cancer cells are no longer localized in one 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if the tumor is ben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7A67-974D-43E6-ACDE-066CB6617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y’s ovarian cancer has been in remission for 10 years. She graduated from college with a BA in Anthropology. Three years later she married, and today she is living happily with her husband Charles and their four-year-old adopted daug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retrieve"/>
          <p:cNvPicPr/>
          <p:nvPr/>
        </p:nvPicPr>
        <p:blipFill>
          <a:blip r:embed="rId1"/>
          <a:stretch/>
        </p:blipFill>
        <p:spPr>
          <a:xfrm>
            <a:off x="2819520" y="2590920"/>
            <a:ext cx="3441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44D2-FC13-45A7-A897-AC3194D62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Abby, what questions would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Abby be worried about cancer? The doctor said it was a cy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7D54-8E8F-4881-8707-036E0429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1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know someone personally that has had canc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5800" y="2673360"/>
            <a:ext cx="3094200" cy="22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CA9F-BE60-40DD-B45C-1C5EDDCB1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895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Cancer Incidence and Mortality Trends in U.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graph of historical trends"/>
          <p:cNvPicPr/>
          <p:nvPr/>
        </p:nvPicPr>
        <p:blipFill>
          <a:blip r:embed="rId1"/>
          <a:stretch/>
        </p:blipFill>
        <p:spPr>
          <a:xfrm>
            <a:off x="3048120" y="152280"/>
            <a:ext cx="5943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557A-4AD5-49AC-846D-39146DD2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5520" y="914040"/>
            <a:ext cx="266724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napshot of ovarian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00800" y="525780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Snapshot of Ovarian Canc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National Cancer Institute, updated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33520" y="149400"/>
            <a:ext cx="490356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8125-B729-49D4-987C-E7DBD0BE2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2: Abby wondered: what is the difference between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nc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um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What do you thin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: The two terms can be used interchangeably as they are synonymo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:  Cancer is a disease that eventually disrupts body functions whereas a tumor is a mass of cells with no apparent function in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:  Cancer is a disease which affects men whereas a tumor may affect both men and wo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: Cancer is a disease of the digestive tract whereas a tumor may develop anywhere in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29BF-6264-4C3A-ABE3-921540753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Ca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st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om the American Cancer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is a group of diseases characterized by uncontrolled growth and spread of abnormal cells. If the spread is not controlled, it can result in death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m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cancerous) – thi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spread; it can eventually become malignant in some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lign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ancerous) – this is can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potential to spread to other parts of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CE9C-B3A0-4D48-8E71-0DE7F305C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Cell Division in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el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nregulated cell division and tumor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5"/>
          <p:cNvGrpSpPr/>
          <p:nvPr/>
        </p:nvGrpSpPr>
        <p:grpSpPr>
          <a:xfrm>
            <a:off x="4723920" y="4038480"/>
            <a:ext cx="1143360" cy="1676520"/>
            <a:chOff x="4723920" y="4038480"/>
            <a:chExt cx="1143360" cy="1676520"/>
          </a:xfrm>
        </p:grpSpPr>
        <p:sp>
          <p:nvSpPr>
            <p:cNvPr id="77" name="Line 10"/>
            <p:cNvSpPr/>
            <p:nvPr/>
          </p:nvSpPr>
          <p:spPr>
            <a:xfrm flipH="1" flipV="1">
              <a:off x="4952880" y="403848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 flipH="1">
              <a:off x="4723920" y="487656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 flipH="1">
              <a:off x="5028480" y="4876560"/>
              <a:ext cx="83844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3"/>
          <p:cNvSpPr/>
          <p:nvPr/>
        </p:nvSpPr>
        <p:spPr>
          <a:xfrm>
            <a:off x="2819520" y="3200400"/>
            <a:ext cx="1828800" cy="10576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ig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umor invades surrounding tissue (cancero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2590920" y="5257800"/>
            <a:ext cx="2301840" cy="13118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individual cells break away and start a new tumor else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o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80880" y="4191120"/>
            <a:ext cx="2286000" cy="946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umor has no effect on surrounding tiss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-cancero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5410080" y="6400800"/>
            <a:ext cx="29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the National Cancer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0" descr="When normal cells are damaged beyond repair, they are eliminated by apoptosis.  Cancer cells avoid apoptosis and continue to multiply in an unregulated manner."/>
          <p:cNvPicPr/>
          <p:nvPr/>
        </p:nvPicPr>
        <p:blipFill>
          <a:blip r:embed="rId1"/>
          <a:stretch/>
        </p:blipFill>
        <p:spPr>
          <a:xfrm>
            <a:off x="6019920" y="1371600"/>
            <a:ext cx="2286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17:58:37Z</dcterms:created>
  <dc:creator>UB</dc:creator>
  <dc:description/>
  <dc:language>en-US</dc:language>
  <cp:lastModifiedBy>UB</cp:lastModifiedBy>
  <dcterms:modified xsi:type="dcterms:W3CDTF">2010-11-18T22:11:34Z</dcterms:modified>
  <cp:revision>34</cp:revision>
  <dc:subject/>
  <dc:title>But I’m Too Young! A Case Study of Ovarian Cancer</dc:title>
</cp:coreProperties>
</file>