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F75-A2BC-45A9-839B-F363FC7E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72FF-A7C8-41DE-87D6-C7C99669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428-B5A0-45BC-864F-F26471FD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312-F36F-47A2-8890-B5BCE146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3B5A-5DD1-4D5F-9D1E-B9035024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3C9-A9DD-471F-84D4-C023623A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AB9A-20A5-4CF2-A7F8-A4EBA329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EB31-4EF0-40AB-8BF5-0DD2E724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088E-BB0D-4A72-B351-E7F639BF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5E6-5C15-4A1B-8126-092803F4A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C5E-3BFF-41F0-A434-1FF56C9F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1BD-CB6B-4E94-A92F-1D5A072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DFE-F903-45D6-BA9C-2AE1E900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2E1-401F-4FC4-B45D-AA821BE4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AE9-6935-40C0-A35E-1E37D665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AAA-E7DE-4F70-B039-8CE70A51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0DE-E84F-45BF-812A-BB23C58A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478-5266-4110-951F-1D4F795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4D0-74C3-454C-B50D-32AB450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FEB-6DFD-4AFE-99E1-F547D1F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CA0-B50D-4C33-898B-7801A3B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607-6148-49AC-BE9F-70A0F638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E38A-3048-4123-8E57-738DFA3A00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CEBF-5D99-4DAD-A13F-BB16C71D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1/Ovarian_serous_adenocarcinoma_%283%29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pload.wikimedia.org/wikipedia/commons/1/12/Ovary_cystoadenoma_mucinous_1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ience.education.nih.gov/supplements/nih1/cancer/activities/activity2_animation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C315-18BF-47FF-9BFB-F6245265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lbertus Medium"/>
              </a:rPr>
              <a:t>But I’m Too Young!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ase Study of Ovaria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cy A. Rice, Department of Biology, Western Kentucky Universit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uno Borsari, Biology Department, Winona Stat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D99-61A9-4650-8C5D-171AA1FA2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3: Normal CA-125 levels are indicated by values of 35 U/ml or less. Abby’s CA-125 levels taken at two different times are indicated below. Is Abby likely to have a cyst or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5"/>
          <p:cNvGraphicFramePr/>
          <p:nvPr/>
        </p:nvGraphicFramePr>
        <p:xfrm>
          <a:off x="2676600" y="2790720"/>
          <a:ext cx="6467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6"/>
          <p:cNvSpPr/>
          <p:nvPr/>
        </p:nvSpPr>
        <p:spPr>
          <a:xfrm>
            <a:off x="533520" y="3581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2434-E102-41CE-B737-86331515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04920" y="3141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ing for 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surgery, Dr. Allen came in to talk to Abby about her test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really sorry, but your CA125 level is high and it looks like your ovary actually does not have a cyst, but instead has a tumor. It is best now to go ahead and remove both of your ovaries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Allen explained she had consulted with a pathologist to verify the diagnosis.  She pulled out a brochure tit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arian 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pened it to show Abby three photographs.  One showed normal ovarian tissue; the other two showed benign and malignant ovarian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D38-5609-4EDF-A3C1-B80652007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:Ovarian serous adenocarcinoma (3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95480"/>
            <a:ext cx="3200400" cy="241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95288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rian adenocarcinoma (malign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Image:Ovary cystoadenoma mucinous 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2895480"/>
            <a:ext cx="3200400" cy="2414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1828800" y="533412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ary cystoadenoma  (ben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80040" y="106668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ovarian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200400" y="533520"/>
            <a:ext cx="28195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C848-FDCF-49B6-8F02-D2C2C5DF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netics of ovarian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y had already learned a lot about ovarian cancer so she followed Dr. Allen’s expla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only 20 years old. How did I get ovarian cancer? Isn’t this a disease of older wo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ovarian cancer does affect older women. However, you may have a genetic predisposition for it.  Cancer cells have mutations in specific genes that regulate cell division. When they are mutated, cell division becomes uncontrollable,” the doctor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earned about those genes on the Internet! Is it true that some ovarian cancers are associated with mutated copies of gene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CA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BRCA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” asked A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” said Dr. Allen. “You likely were born with one a mutated copy of these genes already. A mutation of the second copy could have occurred more recently, triggering the development of your tum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A6D-DC07-447F-B54B-54FF9640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4: Why does cancer primarily affect older people rather than young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immune system of older people is not as effective in distinguishing normal cells from cancer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Because older people have been exposed to more carcinog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cancer develops after multiple mutations have occurred which takes years to happ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None of the abo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328-5769-4D23-83AA-9CDF39FA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cer is a genetic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arises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um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enetic changes (muta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ncers have a minimum of 6-9 different genes m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hereditary disease – we do not pass on cancer to offsp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inherit dispositions (susceptibility) to can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genes that are mutated in cancer are involv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ng the cell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0C7B-FF13-4C5F-8B68-280A979E1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view: The cell cycle has four phases and controls cell divi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ap or growth phases (G1 and G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hase - DNA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phase -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666880" y="2209680"/>
            <a:ext cx="304920" cy="2362320"/>
          </a:xfrm>
          <a:custGeom>
            <a:avLst/>
            <a:gdLst>
              <a:gd name="textAreaLeft" fmla="*/ 0 w 304920"/>
              <a:gd name="textAreaRight" fmla="*/ 11016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3149640"/>
            <a:ext cx="155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ter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Cell_cycle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D114-5A33-45AC-B790-31997A55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ll Cycle Check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heckpoints in 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1-S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2-M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 M phas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points are where the cell assesses whether conditions are favorable for cell di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environment is not favorable (for example, when the cell’s DNA is damaged), a protein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top the cell cycle and cause the cell to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roteins that regulate the cell cycle are mutated or absent, cells can divide uncontrollably, leading to ca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ell_cycle"/>
          <p:cNvPicPr/>
          <p:nvPr/>
        </p:nvPicPr>
        <p:blipFill>
          <a:blip r:embed="rId1"/>
          <a:stretch/>
        </p:blipFill>
        <p:spPr>
          <a:xfrm>
            <a:off x="4572000" y="1752480"/>
            <a:ext cx="426708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F04-D103-4720-B6D8-E8CE9EC6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5: What would you expect cells to be like if they did not have properly functioning p5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The absence of p53 inside cells would cause them to divide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The absence of p53 could cause cells to replicate with damaged DNA that could ultimately lead to ca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The absence of p53 could cause cells to skip mitosis (M phase) and stay in S phase of the cell cy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The absence of p53 would have no effect on the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DFA-DB81-413B-9A74-0C323C71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mor suppressors and onco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utations in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oncogen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tumor suppressor gen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can lead to canc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cience.education.nih.gov/supplements/nih1/cancer/activities/activity2_animations.ht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(Animation #5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9E5-FECE-410C-B820-2004A5BAF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y is Sic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of the Story So Fa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y has been having abdominal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has gone to see Dr. 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ltrasound has indicated a mass on her right o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preparing to have the mass and ovary removed surg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B61-23D4-4173-A577-E9FA5A49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6: The BRCA1 and BRAC2 genes that may be mutated in Abby’s cells would be consid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4343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n onco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A tumor suppressor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BRCA%201"/>
          <p:cNvPicPr/>
          <p:nvPr/>
        </p:nvPicPr>
        <p:blipFill>
          <a:blip r:embed="rId1"/>
          <a:stretch/>
        </p:blipFill>
        <p:spPr>
          <a:xfrm>
            <a:off x="4952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DD04-68C0-49B6-B06A-A9BEE2FC1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Benign to Malig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divide too quickly and can leave the original site and enter the blood, lymph, or tiss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ells divide a set number (60-70) of times, then they stop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usually limits benign tumors to small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can divide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8E1C-9C4B-4554-B25A-827FEA639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Q7: How do cancer cells travel through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Cancer travels through the body by way of sexual intercourse between a healthy person and one affected by the dise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The circulatory system only is responsible for relocating cancer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The lymphatic system collects fluids from capillaries and with it cancer cells, which are then delivered by the circulatory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: They are moved around on neurons throughout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399D-252A-4159-BC64-630C1E86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ow_Metastasis_Occurs"/>
          <p:cNvPicPr/>
          <p:nvPr/>
        </p:nvPicPr>
        <p:blipFill>
          <a:blip r:embed="rId1"/>
          <a:stretch/>
        </p:blipFill>
        <p:spPr>
          <a:xfrm>
            <a:off x="3200400" y="609480"/>
            <a:ext cx="5672160" cy="378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Lymphatic_system"/>
          <p:cNvPicPr/>
          <p:nvPr/>
        </p:nvPicPr>
        <p:blipFill>
          <a:blip r:embed="rId2"/>
          <a:stretch/>
        </p:blipFill>
        <p:spPr>
          <a:xfrm>
            <a:off x="380880" y="990720"/>
            <a:ext cx="269424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533520" y="44956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ssels of the circulatory and lymphatic systems provide a pipeline for cancer cells to move to other locations in the body through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92D0-E934-40D8-B38C-50E45770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y’s treatment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Allen came to see Abby after her surg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went really well. Now we need to think about preventing this from ever coming back. Typically we use a combination of various types of therapy, which includes radiation and chemotherap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s high-energy rays to kill cancer cells. A large machine directs radiation at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mothera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ses anticancer drugs to kill canc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C6EB-E6BC-4E6A-A24B-85DC6765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ypical Ovarian Cancer Treat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mmon chemotherapy for ovarian cancer is Taxol, which was first isolated from Yew bark in 1962 by the National Cancer Institutes (NC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ol blocks a cell's ability to break down the mitotic spindle during mitosis. With the spindle still in place, the cell can't divide into daughter cells and therefore the cancer can’t gr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retrieve"/>
          <p:cNvPicPr/>
          <p:nvPr/>
        </p:nvPicPr>
        <p:blipFill>
          <a:blip r:embed="rId1"/>
          <a:stretch/>
        </p:blipFill>
        <p:spPr>
          <a:xfrm>
            <a:off x="5711760" y="1600200"/>
            <a:ext cx="289872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6327000" y="5943600"/>
            <a:ext cx="17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axus Brevifo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D172-EF17-43B7-A312-2FA3F0816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cer Dete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detection and treatment of cancer greatly increase the odds of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knowing the warning signs of cancer is important to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4876920" y="304920"/>
            <a:ext cx="4114800" cy="6677640"/>
            <a:chOff x="4876920" y="304920"/>
            <a:chExt cx="4114800" cy="6677640"/>
          </a:xfrm>
        </p:grpSpPr>
        <p:sp>
          <p:nvSpPr>
            <p:cNvPr id="152" name="Text Box 7"/>
            <p:cNvSpPr/>
            <p:nvPr/>
          </p:nvSpPr>
          <p:spPr>
            <a:xfrm>
              <a:off x="4952880" y="304920"/>
              <a:ext cx="403884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hange in bowel or bladder ha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sore that does not h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 nusual bleeding or discha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 thickening or lu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 ndigestion or difficulty swallow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bvious change in wart or m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agging cough or hoarse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5"/>
            <p:cNvGrpSpPr/>
            <p:nvPr/>
          </p:nvGrpSpPr>
          <p:grpSpPr>
            <a:xfrm>
              <a:off x="4876920" y="416160"/>
              <a:ext cx="380880" cy="5981760"/>
              <a:chOff x="4876920" y="416160"/>
              <a:chExt cx="380880" cy="5981760"/>
            </a:xfrm>
          </p:grpSpPr>
          <p:sp>
            <p:nvSpPr>
              <p:cNvPr id="154" name="WordArt 8"/>
              <p:cNvSpPr txBox="1"/>
              <p:nvPr/>
            </p:nvSpPr>
            <p:spPr>
              <a:xfrm>
                <a:off x="4876920" y="4161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C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5" name="WordArt 9"/>
              <p:cNvSpPr txBox="1"/>
              <p:nvPr/>
            </p:nvSpPr>
            <p:spPr>
              <a:xfrm>
                <a:off x="4876920" y="22449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U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6" name="WordArt 10"/>
              <p:cNvSpPr txBox="1"/>
              <p:nvPr/>
            </p:nvSpPr>
            <p:spPr>
              <a:xfrm>
                <a:off x="4876920" y="3235680"/>
                <a:ext cx="380880" cy="571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T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7" name="WordArt 11"/>
              <p:cNvSpPr txBox="1"/>
              <p:nvPr/>
            </p:nvSpPr>
            <p:spPr>
              <a:xfrm>
                <a:off x="4929120" y="4073760"/>
                <a:ext cx="22536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I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8" name="WordArt 12"/>
              <p:cNvSpPr txBox="1"/>
              <p:nvPr/>
            </p:nvSpPr>
            <p:spPr>
              <a:xfrm>
                <a:off x="4876920" y="49881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O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9" name="WordArt 13"/>
              <p:cNvSpPr txBox="1"/>
              <p:nvPr/>
            </p:nvSpPr>
            <p:spPr>
              <a:xfrm>
                <a:off x="4876920" y="582624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N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0" name="WordArt 14"/>
              <p:cNvSpPr txBox="1"/>
              <p:nvPr/>
            </p:nvSpPr>
            <p:spPr>
              <a:xfrm>
                <a:off x="4876920" y="1330560"/>
                <a:ext cx="38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1908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A</a:t>
                </a:r>
                <a:endPara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EF59-6EE2-4A6E-872D-FB8EC6EB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8: Can surgery successfully cure a cancer that has metastas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all body cells are dividing uncontroll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t could remove all cells with defective cell-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cancer cells are no longer localized in one 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f the tumor is ben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550-B3FD-4994-861D-BC9ECDAB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y’s ovarian cancer has been in remission for 10 years. She graduated from college with a BA in Anthropology. Three years later she married, and today she is living happily with her husband Charles and their four-year-old adopted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retrieve"/>
          <p:cNvPicPr/>
          <p:nvPr/>
        </p:nvPicPr>
        <p:blipFill>
          <a:blip r:embed="rId1"/>
          <a:stretch/>
        </p:blipFill>
        <p:spPr>
          <a:xfrm>
            <a:off x="2819520" y="2590920"/>
            <a:ext cx="3441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172E-8734-4D65-9355-94E55E1F4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Abby, what questions would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Abby be worried about cancer? The doctor said it was a cy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D87-63DB-4182-83C2-B8BE44B4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1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know someone personally that has had canc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5800" y="2673360"/>
            <a:ext cx="3094200" cy="22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EB1-FB47-4198-8702-A8F0EF0A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895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Cancer Incidence and Mortality Trends in U.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graph of historical trends"/>
          <p:cNvPicPr/>
          <p:nvPr/>
        </p:nvPicPr>
        <p:blipFill>
          <a:blip r:embed="rId1"/>
          <a:stretch/>
        </p:blipFill>
        <p:spPr>
          <a:xfrm>
            <a:off x="3048120" y="152280"/>
            <a:ext cx="5943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C07-321C-4BE9-8918-17855BE3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5520" y="914040"/>
            <a:ext cx="26672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pshot of ovaria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00800" y="525780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Snapshot of Ovarian Canc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National Cancer Institute, updated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33520" y="149400"/>
            <a:ext cx="490356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AA6-DA32-47BF-A389-F57A38EC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2: Abby wondered: what is the difference betwee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nc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um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What do you thi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: The two terms can be used interchangeably as they are synonymo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:  Cancer is a disease that eventually disrupts body functions whereas a tumor is a mass of cells with no apparent function in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:  Cancer is a disease which affects men whereas a tumor may affect both men and wo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: Cancer is a disease of the digestive tract whereas a tumor may develop anywhere in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B782-3BAD-459C-A284-472D11BC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C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st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om the American Cancer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is a group of diseases characterized by uncontrolled growth and spread of abnormal cells. If the spread is not controlled, it can result in death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m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n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cancerous) – thi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spread; it can eventually become malignant in som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lign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ancerous) – this is can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potential to spread to other parts of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361C-6AD0-42DE-8922-E4B2BEFD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Cell Division i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ell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nregulated cell division and tumor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4723920" y="4038480"/>
            <a:ext cx="1143360" cy="1676520"/>
            <a:chOff x="4723920" y="4038480"/>
            <a:chExt cx="1143360" cy="1676520"/>
          </a:xfrm>
        </p:grpSpPr>
        <p:sp>
          <p:nvSpPr>
            <p:cNvPr id="77" name="Line 10"/>
            <p:cNvSpPr/>
            <p:nvPr/>
          </p:nvSpPr>
          <p:spPr>
            <a:xfrm flipH="1" flipV="1">
              <a:off x="4952880" y="403848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 flipH="1">
              <a:off x="4723920" y="48765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 flipH="1">
              <a:off x="5028480" y="4876560"/>
              <a:ext cx="83844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2819520" y="3200400"/>
            <a:ext cx="1828800" cy="10576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umor invades surrounding tissue (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590920" y="5257800"/>
            <a:ext cx="2301840" cy="13118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ndividual cells break away and start a new tumor else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80880" y="4191120"/>
            <a:ext cx="2286000" cy="946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umor has no effect on surrounding tiss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-cancero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5410080" y="6400800"/>
            <a:ext cx="29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the National Cancer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" descr="When normal cells are damaged beyond repair, they are eliminated by apoptosis.  Cancer cells avoid apoptosis and continue to multiply in an unregulated manner."/>
          <p:cNvPicPr/>
          <p:nvPr/>
        </p:nvPicPr>
        <p:blipFill>
          <a:blip r:embed="rId1"/>
          <a:stretch/>
        </p:blipFill>
        <p:spPr>
          <a:xfrm>
            <a:off x="6019920" y="137160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17:58:37Z</dcterms:created>
  <dc:creator>UB</dc:creator>
  <dc:description/>
  <dc:language>en-US</dc:language>
  <cp:lastModifiedBy>UB</cp:lastModifiedBy>
  <dcterms:modified xsi:type="dcterms:W3CDTF">2010-11-18T22:11:34Z</dcterms:modified>
  <cp:revision>34</cp:revision>
  <dc:subject/>
  <dc:title>But I’m Too Young! A Case Study of Ovarian Cancer</dc:title>
</cp:coreProperties>
</file>