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CD85-B3FA-4573-BA77-6019CF2E6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A3A8-A9EC-4C0C-94B0-408C0AF9F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5F2B-F6DF-4A24-B232-5C8F55B76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 Creek Tiger Beetl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d Eagl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Wha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y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caster Co., NE</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 Creek Tiger Bee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of America</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d Ea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les</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FDA8-1FCC-4997-98F5-C5577DCB6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7A78-0E56-47C9-9B19-E8A963E36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ey Act</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ederal law protecting wildlif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ory Bird Treaty A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s federal government regulatory authority over migratory bi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2686-D6C7-4AB6-89DC-583DBFC9F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8846-9AC6-4801-A6BE-D20FB398A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Convention on the Regulation of Whaling</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Japan currently viola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A041-558A-446C-AB72-0E19AA549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EF8F-B473-464E-BD97-62CF9E5C1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4DD7-3AA1-4408-8497-2507C822A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C3EF-2F47-414E-B5F3-99689B2C0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C2E2-E413-4371-9FD1-7B0A690D2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62CC-AB38-4D1C-AF7B-723DC5142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C853-A488-4D75-9055-B279A875B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4C10-FB9C-4EFB-A594-2C70FD472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bo de dos pelos = South American fur s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ro gris chico = Patagonian fox</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5A88-D2AD-4D9E-9A00-F349FA943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DDBE-BB6A-420B-A6B1-666EE715F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5D9A-B061-48AF-90D8-5299F5C93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reserve speci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revent or lower the pollution of air, water and land</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tion of emission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Use of natural resources</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ng regul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Land-use policies</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ning, subsidies for conserv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F3F5-6741-4A02-B98D-2746A0638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common ground for framing and negotiating a collective agreement that simultaneously serves the needs of humans and preserves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69C7-EE45-49B5-BABF-0A6D4C788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d eagle decline… banning DD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lves and ranching interes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s and African indigenous farmer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s and international ivory tr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1735-1E16-4A83-A2A9-4E4F9826D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ene when markets fail to protec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ities: Air pollution from burning coal</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gedy of the “Commons” Problem: Tu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1AB2-51BC-4E5A-94C1-AD7CD188B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49A2-C114-45C1-A963-86407FE3D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A2FF-0911-413D-8838-F3718731C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7F51-7259-407B-B55D-9B6C8FD67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6B26D-7199-4861-A8A1-FCD718925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07D37-0435-4916-ADC0-7F10806E2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006BA-E962-4245-B69C-23DA9AA88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ECD15-1A65-4187-B406-8B833AC5D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53652-1E4D-428E-801A-9D033A007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FC151-47C5-4131-B5A5-D2A0148D3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6434F-54B9-41F2-8E54-02B1C1377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EA1D6-DF40-421D-9BBC-D5A6696D6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F27C4-1ED1-482D-8298-1665D5899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B075D-E321-48F4-9749-DDE8761B9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0C5F7-8260-41CF-8651-84072C42D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35BDF-3F30-43AF-8530-4C5AA8349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FEBA4-A083-401B-97EB-7600BC599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F93A0-FA96-46D7-BBA4-0D48E1352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34FE4-ED3D-4788-8A1E-5F015EE4F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32098-75B4-4C64-8BE4-5F3B00CBF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49BF3-9FC1-4039-A90E-01424CA4B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8D5A766-9DFD-435B-A32F-D95788343D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AD77526-405B-4A28-9A1B-7FF9C4F7D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0EBB21-F8C1-4F03-B25D-A0238ABA70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A613A3-8856-4731-8333-35BBD5375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AD19BFB-2FE9-4A78-A1AD-538864809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BED3B-6DF6-46BB-A973-B59896589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C154FBC-8CC0-4F01-982B-A71A0383D5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A116DE-0FA0-4E4C-8ED2-1E54274946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3AE200-09F9-4CC8-B785-58C163C1E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8AF70C-B572-4923-9BD4-80D8151DB9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6F800CD-3287-4886-9986-AC9CC68D1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BD26395-B8CB-465B-B1D8-54D11AD6BC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43AAE82-84C0-410B-8CB4-3DE252D26C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DC9384D-59E6-4C36-A2C1-8A5191EF5A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F26DB24-ECBD-4FF6-8A77-4030F1BD35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B06DCA-5DBA-4395-96F7-768B254A06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FB78A-D273-4FCF-B2C6-27736A6B0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314098D-2CF2-46AC-830F-5363F80FBA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58DCDFE-49B5-48E2-89F1-77BD15187F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5DA9DB5-83E3-4148-AAC4-8CB74DB89C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A4402E-B34F-4CBF-BA52-5A88ED640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F83812-6A1D-4E66-BA95-D0EC191C1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BB8BDD-DA9A-4DAD-B0E4-1F701C1F9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31EBDAD-32CE-4789-91CC-8C6A63A7F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B8B3B5C-8992-4E72-8466-F032176E4D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42A2046-C4A2-4E23-B805-AF9B51BBC0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8D87118-28D9-4082-92EE-4D757972B8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C0271-F4B0-41CD-B05C-A646012FF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3874087-1D00-401A-A047-BBC1D76917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C7AC995-A914-48F5-9E83-91D197BD0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0DCC05-68B4-4371-98BB-9DFBFD0EAB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3EAD36A-EA29-405F-8844-AB9AA465D7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9E163A-4F80-459E-A653-70A176D439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87DFB4-7FDD-4600-B548-567B61DA3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693CAC-5204-442C-9CE9-9F1790D19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0A1C3D-FB1B-4471-979A-8BC7D0E44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FB55DA2-D040-4FC6-98F3-E6FD57B5EF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8568C11-C9AC-415D-A8E1-DE6CF2021D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ACF1F-BA5D-41A0-B80E-91B194DD1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447304B-7985-4888-96CD-7D471D9C8F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877A82-FB6A-4990-9423-51586E8D37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95DC52-DB9D-4AF9-B38F-E1AB28FF25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246953-8F50-45AD-A3B8-321F91FFD8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3DFD14-E9D0-4548-8D68-A633901218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AD0C3A-C9E6-468E-998D-3AA25F0BDC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FEC0D5-22BB-4855-A953-0457C6250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222F6A-203E-4188-8021-15FF2C7501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967DA-A789-49E2-8014-716BD9616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C67783-B445-4C95-9F07-4A9BFC1023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ACB3D-2D5F-40E1-971A-E02D0A10C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14DE9F-4F14-4448-80F9-88F4D18D30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A975E7-4A73-410E-8F9B-CEA3B2D452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2B803E-8515-4D30-BAB4-41AB9E77B7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3D5758E-B5D0-4573-BD22-8FFCE7DFDD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2E06F9E-FBFB-4E4A-A642-AA47561A52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7407C2F-D049-431B-9A6D-669A33C9C2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019E2B8-662F-4D07-862C-5F9D817B06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59AA776-A334-4D39-9734-539A6FE320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A5D6163-F583-4579-853E-4CC332519D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325DADC-E054-4EA2-8A6B-CFFFEF271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4A4F-85D6-489A-9982-C3D9A465F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96C54A5-AEBA-472F-8C79-96EA41642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34B26DD-2838-46E2-85DC-27CE0564D4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1E000D0-019C-4605-B901-3A694B5F7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4ADB6B5-4585-4521-ADCC-D53F9C0B75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2C65AAB-77B8-47AD-BE54-8053EEF2BF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5F5896-F1EE-4C87-97D6-FD4E6822A7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4AF7FB-0D25-4B2B-9B7C-C9B980E76C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9B16F8-67F1-4601-A284-46A62D1DCF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1D694F-E145-419C-92CB-1220CE1E59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A39534-2834-41B2-AB8E-7599273876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EC13A-CD5B-4AE5-A410-3A3380154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7852F3-F6DA-4F14-ADE8-7311AA8194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01623C-2EC1-4797-B949-F44D3B0313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A13EA1-C981-4D32-A29F-94893927EF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DDD90-B8D6-4421-A564-11D0D871B1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20F892-2177-4851-A79C-C608B3B57C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78AF1A-5204-4B5D-A319-405D41D135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F8B5B1-FD54-4E88-98D8-3148155AE87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DDDA-A030-4637-ABA1-1AEDAFB7303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9107-0D12-41CB-9E7D-A15C5BF314EB}"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689E-8353-4CCD-BD9C-184E72DF67A9}"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C6D4-3224-4D8B-A49D-ED51D94F24D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3E19-C041-4F83-9432-1318EBCAB3F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36C5-6E41-49C6-8E37-65EE3887264B}"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B6D5-EF9A-45D9-A961-F5F45A5DE8E6}"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E5CF-79C5-4B8B-A4FB-0FE4398123B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09320" y="3048120"/>
            <a:ext cx="6629400" cy="26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dc3"/>
                </a:solidFill>
                <a:latin typeface="Tw Cen MT"/>
              </a:rPr>
              <a:t>THE GREAT PATAGONIA LAND GRAB:</a:t>
            </a:r>
            <a:br>
              <a:rPr sz="4000"/>
            </a:br>
            <a:r>
              <a:rPr b="1" lang="en-US" sz="3600" spc="-1" strike="noStrike">
                <a:solidFill>
                  <a:srgbClr val="ebddc3"/>
                </a:solidFill>
                <a:latin typeface="Tw Cen MT"/>
              </a:rPr>
              <a:t>A Case Study on International Biodiversity, Conservation and Environmental Politics</a:t>
            </a:r>
            <a:endParaRPr b="0" lang="en-US" sz="36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By </a:t>
            </a:r>
            <a:r>
              <a:rPr b="0" i="1" lang="en-US" sz="2400" spc="-1" strike="noStrike">
                <a:solidFill>
                  <a:srgbClr val="ffffff"/>
                </a:solidFill>
                <a:latin typeface="Tw Cen MT"/>
              </a:rPr>
              <a:t>Courtney Quinn</a:t>
            </a:r>
            <a:r>
              <a:rPr b="0" lang="en-US" sz="2400" spc="-1" strike="noStrike">
                <a:solidFill>
                  <a:srgbClr val="ffffff"/>
                </a:solidFill>
                <a:latin typeface="Tw Cen MT"/>
              </a:rPr>
              <a:t> and </a:t>
            </a:r>
            <a:r>
              <a:rPr b="0" i="1" lang="en-US" sz="2400" spc="-1" strike="noStrike">
                <a:solidFill>
                  <a:srgbClr val="ffffff"/>
                </a:solidFill>
                <a:latin typeface="Tw Cen MT"/>
              </a:rPr>
              <a:t>John Quinn</a:t>
            </a:r>
            <a:endParaRPr b="0" lang="en-US" sz="24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w Cen MT"/>
              </a:rPr>
              <a:t>University of Nebraska-Lincoln</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licy Options</a:t>
            </a:r>
            <a:endParaRPr b="0" lang="en-US" sz="4400" spc="-1" strike="noStrike">
              <a:solidFill>
                <a:srgbClr val="775f55"/>
              </a:solidFill>
              <a:latin typeface="Tw Cen MT"/>
            </a:endParaRPr>
          </a:p>
        </p:txBody>
      </p:sp>
      <p:sp>
        <p:nvSpPr>
          <p:cNvPr id="394" name=""/>
          <p:cNvSpPr txBox="1"/>
          <p:nvPr/>
        </p:nvSpPr>
        <p:spPr>
          <a:xfrm>
            <a:off x="609480" y="2437920"/>
            <a:ext cx="4267440" cy="358164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dvantage</a:t>
            </a:r>
            <a:endParaRPr b="0" lang="en-US" sz="24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ncourage behavior through market rather then direct regulations</a:t>
            </a:r>
            <a:endParaRPr b="0" lang="en-US" sz="20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hallenges</a:t>
            </a:r>
            <a:endParaRPr b="0" lang="en-US" sz="24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ifficult to value resources</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lows for some pollution</a:t>
            </a:r>
            <a:endParaRPr b="0" lang="en-US" sz="20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amples</a:t>
            </a:r>
            <a:endParaRPr b="0" lang="en-US" sz="24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dable pollution credits</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ottle bills</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395" name=""/>
          <p:cNvSpPr txBox="1"/>
          <p:nvPr/>
        </p:nvSpPr>
        <p:spPr>
          <a:xfrm>
            <a:off x="4876920" y="2437920"/>
            <a:ext cx="41148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dvantages</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rks well in land use</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aight-forward</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hallenge</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stly</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amples</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ndangered Species Ac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ean Air &amp; Water Acts</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6"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w Cen MT"/>
              </a:rPr>
              <a:t>Market</a:t>
            </a:r>
            <a:endParaRPr b="0" lang="en-US" sz="2800" spc="-1" strike="noStrike">
              <a:solidFill>
                <a:srgbClr val="000000"/>
              </a:solidFill>
              <a:latin typeface="Tw Cen MT"/>
            </a:endParaRPr>
          </a:p>
        </p:txBody>
      </p:sp>
      <p:sp>
        <p:nvSpPr>
          <p:cNvPr id="397"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w Cen MT"/>
              </a:rPr>
              <a:t>Regulatory</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Examples of Current Policy</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80880" y="22860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ocal: Salt Creek Tiger Beetle</a:t>
            </a:r>
            <a:endParaRPr b="0" lang="en-US" sz="4400" spc="-1" strike="noStrike">
              <a:solidFill>
                <a:srgbClr val="775f55"/>
              </a:solidFill>
              <a:latin typeface="Tw Cen MT"/>
            </a:endParaRPr>
          </a:p>
        </p:txBody>
      </p:sp>
      <p:sp>
        <p:nvSpPr>
          <p:cNvPr id="400"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a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unoff and sediment from urban areas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Bank channelize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ollution</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bitat loss and degradation</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50 individuals</a:t>
            </a:r>
            <a:endParaRPr b="0" lang="en-US" sz="2900" spc="-1" strike="noStrike">
              <a:solidFill>
                <a:srgbClr val="000000"/>
              </a:solidFill>
              <a:latin typeface="Tw Cen MT"/>
            </a:endParaRPr>
          </a:p>
        </p:txBody>
      </p:sp>
      <p:sp>
        <p:nvSpPr>
          <p:cNvPr id="40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solution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ndangered Species Ac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and Trust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ocal legislation</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Zoning</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vidual action</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munity based incentive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2" name="" descr=""/>
          <p:cNvPicPr/>
          <p:nvPr/>
        </p:nvPicPr>
        <p:blipFill>
          <a:blip r:embed="rId1"/>
          <a:srcRect l="9302" t="13872" r="9302" b="13872"/>
          <a:stretch/>
        </p:blipFill>
        <p:spPr>
          <a:xfrm>
            <a:off x="3254400" y="5378400"/>
            <a:ext cx="2232000" cy="13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ational: Bald Eagle</a:t>
            </a:r>
            <a:endParaRPr b="0" lang="en-US" sz="4400" spc="-1" strike="noStrike">
              <a:solidFill>
                <a:srgbClr val="775f55"/>
              </a:solidFill>
              <a:latin typeface="Tw Cen MT"/>
            </a:endParaRPr>
          </a:p>
        </p:txBody>
      </p:sp>
      <p:sp>
        <p:nvSpPr>
          <p:cNvPr id="40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a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D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unting</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963 &lt; 500 pai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996 &gt; 5,000 pai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995 down-listed under the Endangered Species Ac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solution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acey Ac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igratory Bird Treaty Ac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ndangered Species Ac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406" name="" descr=""/>
          <p:cNvPicPr/>
          <p:nvPr/>
        </p:nvPicPr>
        <p:blipFill>
          <a:blip r:embed="rId1"/>
          <a:stretch/>
        </p:blipFill>
        <p:spPr>
          <a:xfrm>
            <a:off x="5257800" y="4334040"/>
            <a:ext cx="3505320" cy="22953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ndangered Species Act</a:t>
            </a:r>
            <a:endParaRPr b="0" lang="en-US" sz="4400" spc="-1" strike="noStrike">
              <a:solidFill>
                <a:srgbClr val="775f55"/>
              </a:solidFill>
              <a:latin typeface="Tw Cen MT"/>
            </a:endParaRPr>
          </a:p>
        </p:txBody>
      </p:sp>
      <p:sp>
        <p:nvSpPr>
          <p:cNvPr id="408" name=""/>
          <p:cNvSpPr txBox="1"/>
          <p:nvPr/>
        </p:nvSpPr>
        <p:spPr>
          <a:xfrm>
            <a:off x="612720" y="1371600"/>
            <a:ext cx="3959280" cy="49528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all methods and procedures which are necessary to bring any endangered species or threatened species to the point at which the measures provided pursuant to this Act are no longer necessary.”</a:t>
            </a:r>
            <a:endParaRPr b="0" lang="en-US" sz="2900" spc="-1" strike="noStrike">
              <a:solidFill>
                <a:srgbClr val="000000"/>
              </a:solidFill>
              <a:latin typeface="Tw Cen MT"/>
            </a:endParaRPr>
          </a:p>
        </p:txBody>
      </p:sp>
      <p:pic>
        <p:nvPicPr>
          <p:cNvPr id="409" name="" descr=""/>
          <p:cNvPicPr/>
          <p:nvPr/>
        </p:nvPicPr>
        <p:blipFill>
          <a:blip r:embed="rId1"/>
          <a:stretch/>
        </p:blipFill>
        <p:spPr>
          <a:xfrm>
            <a:off x="4952880" y="1676520"/>
            <a:ext cx="3486240" cy="45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28600"/>
            <a:ext cx="8305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ternational: Right Whales </a:t>
            </a:r>
            <a:endParaRPr b="0" lang="en-US" sz="4400" spc="-1" strike="noStrike">
              <a:solidFill>
                <a:srgbClr val="775f55"/>
              </a:solidFill>
              <a:latin typeface="Tw Cen MT"/>
            </a:endParaRPr>
          </a:p>
        </p:txBody>
      </p:sp>
      <p:sp>
        <p:nvSpPr>
          <p:cNvPr id="411" name=""/>
          <p:cNvSpPr txBox="1"/>
          <p:nvPr/>
        </p:nvSpPr>
        <p:spPr>
          <a:xfrm>
            <a:off x="609120" y="1589040"/>
            <a:ext cx="4038840" cy="457200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ats</a:t>
            </a:r>
            <a:endParaRPr b="0" lang="en-US" sz="29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ling</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hip collisions </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Gear entanglement</a:t>
            </a:r>
            <a:endParaRPr b="0" lang="en-US" sz="26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00 in the North Atlantic</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solutions</a:t>
            </a:r>
            <a:endParaRPr b="0" lang="en-US" sz="29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ernational Convention on the Regulation of Whaling</a:t>
            </a:r>
            <a:endParaRPr b="0" lang="en-US" sz="2600" spc="-1" strike="noStrike">
              <a:solidFill>
                <a:srgbClr val="000000"/>
              </a:solidFill>
              <a:latin typeface="Tw Cen MT"/>
            </a:endParaRPr>
          </a:p>
        </p:txBody>
      </p:sp>
      <p:sp>
        <p:nvSpPr>
          <p:cNvPr id="412" name="Rectangle 5"/>
          <p:cNvSpPr/>
          <p:nvPr/>
        </p:nvSpPr>
        <p:spPr>
          <a:xfrm>
            <a:off x="7549560" y="609588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800" spc="-1" strike="noStrike">
                <a:solidFill>
                  <a:srgbClr val="ffffff"/>
                </a:solidFill>
                <a:latin typeface="Arial"/>
              </a:rPr>
              <a:t>Photo from NOAA</a:t>
            </a:r>
            <a:endParaRPr b="0" lang="en-US" sz="800" spc="-1" strike="noStrike">
              <a:solidFill>
                <a:srgbClr val="000000"/>
              </a:solidFill>
              <a:latin typeface="Arial"/>
            </a:endParaRPr>
          </a:p>
        </p:txBody>
      </p:sp>
      <p:pic>
        <p:nvPicPr>
          <p:cNvPr id="413" name="" descr=""/>
          <p:cNvPicPr/>
          <p:nvPr/>
        </p:nvPicPr>
        <p:blipFill>
          <a:blip r:embed="rId1"/>
          <a:stretch/>
        </p:blipFill>
        <p:spPr>
          <a:xfrm>
            <a:off x="5130720" y="1676520"/>
            <a:ext cx="3251160" cy="48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ternational Policy</a:t>
            </a:r>
            <a:endParaRPr b="0" lang="en-US" sz="4400" spc="-1" strike="noStrike">
              <a:solidFill>
                <a:srgbClr val="775f55"/>
              </a:solidFill>
              <a:latin typeface="Tw Cen MT"/>
            </a:endParaRPr>
          </a:p>
        </p:txBody>
      </p:sp>
      <p:sp>
        <p:nvSpPr>
          <p:cNvPr id="415" name=""/>
          <p:cNvSpPr txBox="1"/>
          <p:nvPr/>
        </p:nvSpPr>
        <p:spPr>
          <a:xfrm>
            <a:off x="612720" y="1600200"/>
            <a:ext cx="8153280" cy="502920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y?</a:t>
            </a:r>
            <a:endParaRPr b="0" lang="en-US" sz="29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ecies migrate across political borders</a:t>
            </a:r>
            <a:endParaRPr b="0" lang="en-US" sz="26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ernational trade</a:t>
            </a:r>
            <a:endParaRPr b="0" lang="en-US" sz="26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Benefits of biodiversity are of international importance</a:t>
            </a:r>
            <a:endParaRPr b="0" lang="en-US" sz="26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ollution and degradation that threaten ecosystems are international in scope and require international cooperation</a:t>
            </a:r>
            <a:endParaRPr b="0" lang="en-US" sz="26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fficulties</a:t>
            </a:r>
            <a:endParaRPr b="0" lang="en-US" sz="29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nforcement</a:t>
            </a:r>
            <a:endParaRPr b="0" lang="en-US" sz="26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Not binding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International Policies</a:t>
            </a:r>
            <a:endParaRPr b="0" lang="en-US" sz="4400" spc="-1" strike="noStrike">
              <a:solidFill>
                <a:srgbClr val="775f55"/>
              </a:solidFill>
              <a:latin typeface="Tw Cen MT"/>
            </a:endParaRPr>
          </a:p>
        </p:txBody>
      </p:sp>
      <p:sp>
        <p:nvSpPr>
          <p:cNvPr id="417"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vention on International Trade of Endangered Species (CITES)</a:t>
            </a:r>
            <a:endParaRPr b="0" lang="en-US" sz="29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vention on Biological Diversity</a:t>
            </a:r>
            <a:endParaRPr b="0" lang="en-US" sz="29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amsar Convention on Wetlands</a:t>
            </a:r>
            <a:endParaRPr b="0" lang="en-US" sz="29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vention Concerning the Protection of the World Cultural and Natural Heritage</a:t>
            </a:r>
            <a:endParaRPr b="0" lang="en-US" sz="29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genda 21</a:t>
            </a:r>
            <a:endParaRPr b="0" lang="en-US" sz="29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o Declaration on Environment and Development </a:t>
            </a:r>
            <a:endParaRPr b="0" lang="en-US" sz="29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The Great Patagonia Land Grab</a:t>
            </a:r>
            <a:endParaRPr b="0" lang="en-US" sz="4400" spc="-1" strike="noStrike">
              <a:solidFill>
                <a:srgbClr val="775f55"/>
              </a:solidFill>
              <a:latin typeface="Tw Cen MT"/>
            </a:endParaRPr>
          </a:p>
        </p:txBody>
      </p:sp>
      <p:pic>
        <p:nvPicPr>
          <p:cNvPr id="419" name="" descr=""/>
          <p:cNvPicPr/>
          <p:nvPr/>
        </p:nvPicPr>
        <p:blipFill>
          <a:blip r:embed="rId2"/>
          <a:stretch/>
        </p:blipFill>
        <p:spPr>
          <a:xfrm>
            <a:off x="2133720" y="2752560"/>
            <a:ext cx="6019560" cy="380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licy simulation</a:t>
            </a:r>
            <a:endParaRPr b="0" lang="en-US" sz="4400" spc="-1" strike="noStrike">
              <a:solidFill>
                <a:srgbClr val="775f55"/>
              </a:solidFill>
              <a:latin typeface="Tw Cen MT"/>
            </a:endParaRPr>
          </a:p>
        </p:txBody>
      </p:sp>
      <p:sp>
        <p:nvSpPr>
          <p:cNvPr id="421" name=""/>
          <p:cNvSpPr txBox="1"/>
          <p:nvPr/>
        </p:nvSpPr>
        <p:spPr>
          <a:xfrm>
            <a:off x="609120" y="2437920"/>
            <a:ext cx="8153640" cy="358164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ats to biodiversity</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st major stakeholder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scussion of public vs. private protection</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 policy creation</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recommendation presentation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line voting</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llow-up writing assignment</a:t>
            </a:r>
            <a:endParaRPr b="0" lang="en-US" sz="2900" spc="-1" strike="noStrike">
              <a:solidFill>
                <a:srgbClr val="000000"/>
              </a:solidFill>
              <a:latin typeface="Tw Cen MT"/>
            </a:endParaRPr>
          </a:p>
        </p:txBody>
      </p:sp>
      <p:sp>
        <p:nvSpPr>
          <p:cNvPr id="422" name="PlaceHolder 2"/>
          <p:cNvSpPr>
            <a:spLocks noGrp="1"/>
          </p:cNvSpPr>
          <p:nvPr>
            <p:ph/>
          </p:nvPr>
        </p:nvSpPr>
        <p:spPr>
          <a:xfrm>
            <a:off x="609120" y="1752120"/>
            <a:ext cx="8153640" cy="639720"/>
          </a:xfrm>
          <a:prstGeom prst="rect">
            <a:avLst/>
          </a:prstGeom>
          <a:solidFill>
            <a:srgbClr val="dd8047"/>
          </a:solidFill>
          <a:ln w="0">
            <a:noFill/>
          </a:ln>
        </p:spPr>
        <p:txBody>
          <a:bodyPr anchor="ctr">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w Cen MT"/>
              </a:rPr>
              <a:t>The Great Patagonia Land Grab</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0" name=""/>
          <p:cNvSpPr txBox="1"/>
          <p:nvPr/>
        </p:nvSpPr>
        <p:spPr>
          <a:xfrm>
            <a:off x="45720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ole of Public Polic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y Polic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nefits of Polic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Challenge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evels of Polic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Op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Simulation</a:t>
            </a:r>
            <a:endParaRPr b="0" lang="en-US" sz="2900" spc="-1" strike="noStrike">
              <a:solidFill>
                <a:srgbClr val="000000"/>
              </a:solidFill>
              <a:latin typeface="Tw Cen MT"/>
            </a:endParaRPr>
          </a:p>
        </p:txBody>
      </p:sp>
      <p:sp>
        <p:nvSpPr>
          <p:cNvPr id="361" name="TextBox 4"/>
          <p:cNvSpPr/>
          <p:nvPr/>
        </p:nvSpPr>
        <p:spPr>
          <a:xfrm>
            <a:off x="7238880" y="525780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ational Geographic Magazine</a:t>
            </a:r>
            <a:endParaRPr b="0" lang="en-US" sz="800" spc="-1" strike="noStrike">
              <a:solidFill>
                <a:srgbClr val="000000"/>
              </a:solidFill>
              <a:latin typeface="Arial"/>
            </a:endParaRPr>
          </a:p>
        </p:txBody>
      </p:sp>
      <p:pic>
        <p:nvPicPr>
          <p:cNvPr id="362" name="" descr=""/>
          <p:cNvPicPr/>
          <p:nvPr/>
        </p:nvPicPr>
        <p:blipFill>
          <a:blip r:embed="rId1"/>
          <a:stretch/>
        </p:blipFill>
        <p:spPr>
          <a:xfrm>
            <a:off x="3962520" y="2516040"/>
            <a:ext cx="4800600" cy="3198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Great Patagonia Land Grab</a:t>
            </a:r>
            <a:endParaRPr b="0" lang="en-US" sz="4400" spc="-1" strike="noStrike">
              <a:solidFill>
                <a:srgbClr val="775f55"/>
              </a:solidFill>
              <a:latin typeface="Tw Cen MT"/>
            </a:endParaRPr>
          </a:p>
        </p:txBody>
      </p:sp>
      <p:sp>
        <p:nvSpPr>
          <p:cNvPr id="424"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tional wealthy landowners are buying millions of acr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oal - protect species and beautiful landscapes by creating national parks and returning the land to the government</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digenous people claim they are being excluded from historical land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ultural heritage (ranching) being replaced by eco-tourism</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bates over water rights and land acces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424">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424">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tagonian biodiversity</a:t>
            </a:r>
            <a:endParaRPr b="0" lang="en-US" sz="4400" spc="-1" strike="noStrike">
              <a:solidFill>
                <a:srgbClr val="775f55"/>
              </a:solidFill>
              <a:latin typeface="Tw Cen MT"/>
            </a:endParaRPr>
          </a:p>
        </p:txBody>
      </p:sp>
      <p:sp>
        <p:nvSpPr>
          <p:cNvPr id="426" name=""/>
          <p:cNvSpPr txBox="1"/>
          <p:nvPr/>
        </p:nvSpPr>
        <p:spPr>
          <a:xfrm>
            <a:off x="609120" y="1589040"/>
            <a:ext cx="3886200" cy="457200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ortant landscape features</a:t>
            </a:r>
            <a:endParaRPr b="0" lang="en-US" sz="29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etlands</a:t>
            </a:r>
            <a:endParaRPr b="0" lang="en-US" sz="26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ivers</a:t>
            </a:r>
            <a:endParaRPr b="0" lang="en-US" sz="26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Upland grassland</a:t>
            </a:r>
            <a:endParaRPr b="0" lang="en-US" sz="26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ew protected area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ats</a:t>
            </a:r>
            <a:endParaRPr b="0" lang="en-US" sz="29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mland expansion</a:t>
            </a:r>
            <a:endParaRPr b="0" lang="en-US" sz="26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vasive species </a:t>
            </a:r>
            <a:endParaRPr b="0" lang="en-US" sz="26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Over grazing</a:t>
            </a:r>
            <a:endParaRPr b="0" lang="en-US" sz="26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427"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ndemic and endangered speci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uddy-headed goose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428" name="" descr=""/>
          <p:cNvPicPr/>
          <p:nvPr/>
        </p:nvPicPr>
        <p:blipFill>
          <a:blip r:embed="rId1"/>
          <a:stretch/>
        </p:blipFill>
        <p:spPr>
          <a:xfrm>
            <a:off x="4876920" y="3581280"/>
            <a:ext cx="3876480" cy="27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Content Placeholder 5"/>
          <p:cNvSpPr/>
          <p:nvPr/>
        </p:nvSpPr>
        <p:spPr>
          <a:xfrm>
            <a:off x="4876920" y="1523880"/>
            <a:ext cx="3581280" cy="4496040"/>
          </a:xfrm>
          <a:prstGeom prst="rect">
            <a:avLst/>
          </a:prstGeom>
          <a:noFill/>
          <a:ln w="0">
            <a:noFill/>
          </a:ln>
        </p:spPr>
        <p:style>
          <a:lnRef idx="0"/>
          <a:fillRef idx="0"/>
          <a:effectRef idx="0"/>
          <a:fontRef idx="minor"/>
        </p:style>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tagonia Mara</a:t>
            </a:r>
            <a:endParaRPr b="0" lang="en-US" sz="2900" spc="-1" strike="noStrike">
              <a:solidFill>
                <a:srgbClr val="000000"/>
              </a:solidFill>
              <a:latin typeface="Arial"/>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Zorro gris chico</a:t>
            </a:r>
            <a:endParaRPr b="0" lang="en-US" sz="2900" spc="-1" strike="noStrike">
              <a:solidFill>
                <a:srgbClr val="000000"/>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atened &amp; Endangered Species</a:t>
            </a:r>
            <a:endParaRPr b="0" lang="en-US" sz="4400" spc="-1" strike="noStrike">
              <a:solidFill>
                <a:srgbClr val="775f55"/>
              </a:solidFill>
              <a:latin typeface="Tw Cen MT"/>
            </a:endParaRPr>
          </a:p>
        </p:txBody>
      </p:sp>
      <p:sp>
        <p:nvSpPr>
          <p:cNvPr id="431" name=""/>
          <p:cNvSpPr txBox="1"/>
          <p:nvPr/>
        </p:nvSpPr>
        <p:spPr>
          <a:xfrm>
            <a:off x="609120" y="1523520"/>
            <a:ext cx="3581640" cy="44960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bo de dos pelo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uanaco</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2" name="" descr=""/>
          <p:cNvPicPr/>
          <p:nvPr/>
        </p:nvPicPr>
        <p:blipFill>
          <a:blip r:embed="rId1"/>
          <a:stretch/>
        </p:blipFill>
        <p:spPr>
          <a:xfrm>
            <a:off x="1066680" y="2057400"/>
            <a:ext cx="2667240" cy="1773360"/>
          </a:xfrm>
          <a:prstGeom prst="rect">
            <a:avLst/>
          </a:prstGeom>
          <a:ln w="0">
            <a:noFill/>
          </a:ln>
        </p:spPr>
      </p:pic>
      <p:pic>
        <p:nvPicPr>
          <p:cNvPr id="433" name="" descr=""/>
          <p:cNvPicPr/>
          <p:nvPr/>
        </p:nvPicPr>
        <p:blipFill>
          <a:blip r:embed="rId2"/>
          <a:stretch/>
        </p:blipFill>
        <p:spPr>
          <a:xfrm>
            <a:off x="1066680" y="4343400"/>
            <a:ext cx="2205000" cy="2209680"/>
          </a:xfrm>
          <a:prstGeom prst="rect">
            <a:avLst/>
          </a:prstGeom>
          <a:ln w="0">
            <a:noFill/>
          </a:ln>
        </p:spPr>
      </p:pic>
      <p:pic>
        <p:nvPicPr>
          <p:cNvPr id="434" name="" descr=""/>
          <p:cNvPicPr/>
          <p:nvPr/>
        </p:nvPicPr>
        <p:blipFill>
          <a:blip r:embed="rId3"/>
          <a:stretch/>
        </p:blipFill>
        <p:spPr>
          <a:xfrm>
            <a:off x="5334120" y="2057400"/>
            <a:ext cx="2347920" cy="2055960"/>
          </a:xfrm>
          <a:prstGeom prst="rect">
            <a:avLst/>
          </a:prstGeom>
          <a:ln w="0">
            <a:noFill/>
          </a:ln>
        </p:spPr>
      </p:pic>
      <p:pic>
        <p:nvPicPr>
          <p:cNvPr id="435" name="" descr=""/>
          <p:cNvPicPr/>
          <p:nvPr/>
        </p:nvPicPr>
        <p:blipFill>
          <a:blip r:embed="rId4"/>
          <a:stretch/>
        </p:blipFill>
        <p:spPr>
          <a:xfrm>
            <a:off x="5334120" y="472428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Great Patagonia Land Grab</a:t>
            </a:r>
            <a:endParaRPr b="0" lang="en-US" sz="4400" spc="-1" strike="noStrike">
              <a:solidFill>
                <a:srgbClr val="775f55"/>
              </a:solidFill>
              <a:latin typeface="Tw Cen MT"/>
            </a:endParaRPr>
          </a:p>
        </p:txBody>
      </p:sp>
      <p:sp>
        <p:nvSpPr>
          <p:cNvPr id="437" name=""/>
          <p:cNvSpPr txBox="1"/>
          <p:nvPr/>
        </p:nvSpPr>
        <p:spPr>
          <a:xfrm>
            <a:off x="609120" y="2437920"/>
            <a:ext cx="3886200" cy="3581640"/>
          </a:xfrm>
          <a:prstGeom prst="rect">
            <a:avLst/>
          </a:prstGeom>
          <a:noFill/>
          <a:ln w="0">
            <a:noFill/>
          </a:ln>
        </p:spPr>
        <p:txBody>
          <a:bodyPr anchor="t">
            <a:normAutofit fontScale="88000"/>
          </a:bodyPr>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tional environmental groups</a:t>
            </a: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tional wealthy landowners</a:t>
            </a: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cal indigenous people</a:t>
            </a: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cal ranchers</a:t>
            </a: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overnment</a:t>
            </a:r>
            <a:endParaRPr b="0" lang="en-US" sz="2900" spc="-1" strike="noStrike">
              <a:solidFill>
                <a:srgbClr val="000000"/>
              </a:solidFill>
              <a:latin typeface="Tw Cen MT"/>
            </a:endParaRPr>
          </a:p>
        </p:txBody>
      </p:sp>
      <p:sp>
        <p:nvSpPr>
          <p:cNvPr id="438" name=""/>
          <p:cNvSpPr txBox="1"/>
          <p:nvPr/>
        </p:nvSpPr>
        <p:spPr>
          <a:xfrm>
            <a:off x="4800240" y="2437920"/>
            <a:ext cx="3886200" cy="358164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you think public or private protection for conservation is a better option?</a:t>
            </a:r>
            <a:endParaRPr b="0" lang="en-US" sz="29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idering a particular species…</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idering a large landscape (like Patagonia)…</a:t>
            </a:r>
            <a:endParaRPr b="0" lang="en-US" sz="2600" spc="-1" strike="noStrike">
              <a:solidFill>
                <a:srgbClr val="000000"/>
              </a:solidFill>
              <a:latin typeface="Tw Cen MT"/>
            </a:endParaRPr>
          </a:p>
        </p:txBody>
      </p:sp>
      <p:sp>
        <p:nvSpPr>
          <p:cNvPr id="439"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Stakeholders</a:t>
            </a:r>
            <a:r>
              <a:rPr b="1" lang="en-US" sz="2000" spc="-1" strike="noStrike">
                <a:solidFill>
                  <a:srgbClr val="ffffff"/>
                </a:solidFill>
                <a:latin typeface="Tw Cen MT"/>
              </a:rPr>
              <a:t>	</a:t>
            </a:r>
            <a:endParaRPr b="0" lang="en-US" sz="2000" spc="-1" strike="noStrike">
              <a:solidFill>
                <a:srgbClr val="000000"/>
              </a:solidFill>
              <a:latin typeface="Tw Cen MT"/>
            </a:endParaRPr>
          </a:p>
        </p:txBody>
      </p:sp>
      <p:sp>
        <p:nvSpPr>
          <p:cNvPr id="440"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Public vs. Private</a:t>
            </a:r>
            <a:r>
              <a:rPr b="1" lang="en-US" sz="2000" spc="-1" strike="noStrike">
                <a:solidFill>
                  <a:srgbClr val="ffffff"/>
                </a:solidFill>
                <a:latin typeface="Tw Cen MT"/>
              </a:rPr>
              <a:t>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437">
                                            <p:txEl>
                                              <p:pRg st="1" end="1"/>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37">
                                            <p:txEl>
                                              <p:pRg st="2" end="2"/>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437">
                                            <p:txEl>
                                              <p:pRg st="3" end="3"/>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437">
                                            <p:txEl>
                                              <p:pRg st="4" end="4"/>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438">
                                            <p:txEl>
                                              <p:pRg st="0" end="0"/>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438">
                                            <p:txEl>
                                              <p:pRg st="1" end="1"/>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4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442" name=""/>
          <p:cNvSpPr txBox="1"/>
          <p:nvPr/>
        </p:nvSpPr>
        <p:spPr>
          <a:xfrm>
            <a:off x="609120" y="2437920"/>
            <a:ext cx="3886200" cy="358164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eate at least one policy recommendation for the Patagonia region as your assigned stakeholder group</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time, you will present your policy</a:t>
            </a:r>
            <a:endParaRPr b="0" lang="en-US" sz="2900" spc="-1" strike="noStrike">
              <a:solidFill>
                <a:srgbClr val="000000"/>
              </a:solidFill>
              <a:latin typeface="Tw Cen MT"/>
            </a:endParaRPr>
          </a:p>
        </p:txBody>
      </p:sp>
      <p:sp>
        <p:nvSpPr>
          <p:cNvPr id="443" name=""/>
          <p:cNvSpPr txBox="1"/>
          <p:nvPr/>
        </p:nvSpPr>
        <p:spPr>
          <a:xfrm>
            <a:off x="4724280" y="2437920"/>
            <a:ext cx="4191120" cy="358164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 Blackboard</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Your grade will be decided by your ability to agree</a:t>
            </a:r>
            <a:endParaRPr b="0" lang="en-US" sz="29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50% simple majority = C</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75% majority = B</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90% agreement = A</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444"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In your groups</a:t>
            </a:r>
            <a:r>
              <a:rPr b="1" lang="en-US" sz="2000" spc="-1" strike="noStrike">
                <a:solidFill>
                  <a:srgbClr val="ffffff"/>
                </a:solidFill>
                <a:latin typeface="Tw Cen MT"/>
              </a:rPr>
              <a:t>	</a:t>
            </a:r>
            <a:endParaRPr b="0" lang="en-US" sz="2000" spc="-1" strike="noStrike">
              <a:solidFill>
                <a:srgbClr val="000000"/>
              </a:solidFill>
              <a:latin typeface="Tw Cen MT"/>
            </a:endParaRPr>
          </a:p>
        </p:txBody>
      </p:sp>
      <p:sp>
        <p:nvSpPr>
          <p:cNvPr id="445"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Voting</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4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92000"/>
          </a:bodyPr>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2 and Slide 5—Center</a:t>
            </a:r>
            <a:endParaRPr b="0" lang="en-US" sz="20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Young bull elephant, Sabi Sands, South Africa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Young_bull_elephant.jpg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Lee R. Berger</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a:t>
            </a:r>
            <a:endParaRPr b="0" lang="en-US" sz="14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3—Left</a:t>
            </a:r>
            <a:endParaRPr b="0" lang="en-US" sz="20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Polar Bear at Cape Churchill (Wapusk-National Park, Manitoba, Canada)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Polar_Bear_2004-11-15.jpg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Ansgar Walk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is image is licensed under the Creative Commons Attribution ShareAlike 3.0 License.</a:t>
            </a:r>
            <a:endParaRPr b="0" lang="en-US" sz="14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3—Center</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Industrial air pollution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AirPollutionSource.jpg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is work is in the public domain in the United States because it is a work of the United States Federal Government under the terms of Title 17, Chapter 1, Section 105 of the US Code. </a:t>
            </a:r>
            <a:endParaRPr b="0" lang="en-US" sz="1400" spc="-1" strike="noStrike">
              <a:solidFill>
                <a:srgbClr val="000000"/>
              </a:solidFill>
              <a:latin typeface="Tw Cen MT"/>
            </a:endParaRPr>
          </a:p>
          <a:p>
            <a:pPr lvl="1" marL="5882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49" name="PlaceHolder 2"/>
          <p:cNvSpPr>
            <a:spLocks noGrp="1"/>
          </p:cNvSpPr>
          <p:nvPr>
            <p:ph/>
          </p:nvPr>
        </p:nvSpPr>
        <p:spPr>
          <a:xfrm>
            <a:off x="612720" y="1599840"/>
            <a:ext cx="8153280" cy="4724280"/>
          </a:xfrm>
          <a:prstGeom prst="rect">
            <a:avLst/>
          </a:prstGeom>
          <a:noFill/>
          <a:ln w="0">
            <a:noFill/>
          </a:ln>
        </p:spPr>
        <p:txBody>
          <a:bodyPr lIns="90000" rIns="90000" tIns="46800" bIns="46800" anchor="t">
            <a:normAutofit fontScale="99000"/>
          </a:bodyPr>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3—Right </a:t>
            </a:r>
            <a:endParaRPr b="0" lang="en-US" sz="20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Tract housing near Union, Kentucky from the air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Cincinnati-suburbs-tract-housing.jpg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Derek Jensen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 </a:t>
            </a:r>
            <a:endParaRPr b="0" lang="en-US" sz="14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4 </a:t>
            </a:r>
            <a:endParaRPr b="0" lang="en-US" sz="20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Acacia tree at dusk. Taken on safari in Tanzania.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Acacia_At_Dusk.jpg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John Storr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 </a:t>
            </a:r>
            <a:endParaRPr b="0" lang="en-US" sz="14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5—Left </a:t>
            </a:r>
            <a:endParaRPr b="0" lang="en-US" sz="20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A wolf </a:t>
            </a:r>
            <a:r>
              <a:rPr b="0" i="1" lang="en-US" sz="1400" spc="-1" strike="noStrike">
                <a:solidFill>
                  <a:srgbClr val="000000"/>
                </a:solidFill>
                <a:latin typeface="Tw Cen MT"/>
              </a:rPr>
              <a:t>(Canis lupus)</a:t>
            </a:r>
            <a:r>
              <a:rPr b="0" lang="en-US" sz="1400" spc="-1" strike="noStrike">
                <a:solidFill>
                  <a:srgbClr val="000000"/>
                </a:solidFill>
                <a:latin typeface="Tw Cen MT"/>
              </a:rPr>
              <a:t>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Canis_lupus.jpg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Bernard Landgraf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Permission is granted to copy, distribute and/or modify this document under the terms of the GNU Free Documentation License, Version 1.2 or any later version published by the Free Software Foundation; with no Invariant Sections, no Front-Cover Texts, and no Back-Cover Texts.</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51" name="PlaceHolder 2"/>
          <p:cNvSpPr>
            <a:spLocks noGrp="1"/>
          </p:cNvSpPr>
          <p:nvPr>
            <p:ph/>
          </p:nvPr>
        </p:nvSpPr>
        <p:spPr>
          <a:xfrm>
            <a:off x="612720" y="1599840"/>
            <a:ext cx="8153280" cy="480060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5— Right </a:t>
            </a:r>
            <a:endParaRPr b="0" lang="en-US" sz="20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The head of a bald eagle, </a:t>
            </a:r>
            <a:r>
              <a:rPr b="0" i="1" lang="en-US" sz="1400" spc="-1" strike="noStrike">
                <a:solidFill>
                  <a:srgbClr val="000000"/>
                </a:solidFill>
                <a:latin typeface="Tw Cen MT"/>
              </a:rPr>
              <a:t>Haliaeetus leucocephalus</a:t>
            </a:r>
            <a:r>
              <a:rPr b="0" lang="en-US" sz="1400" spc="-1" strike="noStrike">
                <a:solidFill>
                  <a:srgbClr val="000000"/>
                </a:solidFill>
                <a:latin typeface="Tw Cen MT"/>
              </a:rPr>
              <a:t>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Bald_eagle_head_frontal.jpg; http://www.flickr.com/photos/66164549@N00/2312199581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Kevin Law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is image is licensed under the Creative Commons Attribution ShareAlike 2.0 License. </a:t>
            </a:r>
            <a:endParaRPr b="0" lang="en-US" sz="14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6— Left </a:t>
            </a:r>
            <a:endParaRPr b="0" lang="en-US" sz="20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escription: Coal plant, Kintigh Generating Station, Somerset, New York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urce: http://commons.wikimedia.org/wiki/File:Kintigh_Generating_Station_-_Somerset,_New_York.jpg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uthor: Matthew D. Wilson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Licensing: This image is licensed under the Creative Commons Attribution ShareAlike 2.5 License. </a:t>
            </a:r>
            <a:endParaRPr b="0" lang="en-US" sz="14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6—Right </a:t>
            </a:r>
            <a:endParaRPr b="0" lang="en-US" sz="20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escription: Thunnus atlanticus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urce: http://commons.wikimedia.org/wiki/File:Blackfin_tuna,_Duane_Raver_Jr.jpg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uthor: Duane Raver, Jr.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Licensing: This image is a work of a United States Department of Agriculture employee, taken or made during the course of the person’s official duties. As a work of the U.S. federal government, the image is in the public domain.</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5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7 </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World as bitten apple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us.fotolia.com/id/12995510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 boettcher &amp; petoe — Fotolia.com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Licensed image. </a:t>
            </a:r>
            <a:endParaRPr b="0" lang="en-US" sz="14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12 </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Salt Creek Tiger Beetle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www.fws.gov/mountain-prairie/species/invertebrates/saltcreektiger/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Seth Willey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is image is believed to be a work of an employee of the U.S. Fish and Wildlife Service, Department of the Interior, taken or made during the course of official duties. As a work of the U.S. federal government, the image is in the public domain (17 U.S.C. § 101 and 105). </a:t>
            </a:r>
            <a:endParaRPr b="0" lang="en-US" sz="14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13 </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Bald eagle in flight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Haliaeetus_leucocephalus_in_flight_over_KSC.jpg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NASA/Gary Rothstein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is file is in the public domain because it was created by NASA. NASA copyright policy states that “NASA material is not protected by copyright unless noted.”</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55" name="PlaceHolder 2"/>
          <p:cNvSpPr>
            <a:spLocks noGrp="1"/>
          </p:cNvSpPr>
          <p:nvPr>
            <p:ph/>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14</a:t>
            </a:r>
            <a:r>
              <a:rPr b="0" lang="en-US" sz="1700" spc="-1" strike="noStrike">
                <a:solidFill>
                  <a:srgbClr val="000000"/>
                </a:solidFill>
                <a:latin typeface="Tw Cen MT"/>
              </a:rPr>
              <a:t> </a:t>
            </a:r>
            <a:endParaRPr b="0" lang="en-US" sz="17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Excerpt from the Endangered Species Act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www.nefsc.noaa.gov/salmon/finalcriticalhabitat.html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NOAA Fisheries Service Northeast Salmon Team, U.S. Department of Commerce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As a work of the U.S. federal government, the image is in the public domain (17 U.S.C. § 101 and 105). </a:t>
            </a:r>
            <a:endParaRPr b="0" lang="en-US" sz="1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15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Southern right whale (Peninsula Valdés, Patagonia, Argentina)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Southern_right_whale4.jpg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Michaël Catanzariti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 </a:t>
            </a:r>
            <a:endParaRPr b="0" lang="en-US" sz="1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18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Río Baker en la región de Aisén, Chile.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R%C3%ADo_Baker_03.jpg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Jorge Morales F.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Role of Public Policy</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cludes all the laws and agencies in society that deal with that society’s interactions with the environment</a:t>
            </a:r>
            <a:endParaRPr b="0" lang="en-US" sz="2900" spc="-1" strike="noStrike">
              <a:solidFill>
                <a:srgbClr val="000000"/>
              </a:solidFill>
              <a:latin typeface="Tw Cen MT"/>
            </a:endParaRPr>
          </a:p>
        </p:txBody>
      </p:sp>
      <p:pic>
        <p:nvPicPr>
          <p:cNvPr id="365" name="" descr=""/>
          <p:cNvPicPr/>
          <p:nvPr/>
        </p:nvPicPr>
        <p:blipFill>
          <a:blip r:embed="rId1"/>
          <a:stretch/>
        </p:blipFill>
        <p:spPr>
          <a:xfrm>
            <a:off x="304920" y="3048120"/>
            <a:ext cx="2743200" cy="2077920"/>
          </a:xfrm>
          <a:prstGeom prst="rect">
            <a:avLst/>
          </a:prstGeom>
          <a:ln w="0">
            <a:noFill/>
          </a:ln>
        </p:spPr>
      </p:pic>
      <p:pic>
        <p:nvPicPr>
          <p:cNvPr id="366" name="" descr=""/>
          <p:cNvPicPr/>
          <p:nvPr/>
        </p:nvPicPr>
        <p:blipFill>
          <a:blip r:embed="rId2"/>
          <a:stretch/>
        </p:blipFill>
        <p:spPr>
          <a:xfrm>
            <a:off x="3200400" y="3048120"/>
            <a:ext cx="2664000" cy="3581280"/>
          </a:xfrm>
          <a:prstGeom prst="rect">
            <a:avLst/>
          </a:prstGeom>
          <a:ln w="0">
            <a:noFill/>
          </a:ln>
        </p:spPr>
      </p:pic>
      <p:pic>
        <p:nvPicPr>
          <p:cNvPr id="367" name="" descr=""/>
          <p:cNvPicPr/>
          <p:nvPr/>
        </p:nvPicPr>
        <p:blipFill>
          <a:blip r:embed="rId3"/>
          <a:stretch/>
        </p:blipFill>
        <p:spPr>
          <a:xfrm>
            <a:off x="6070680" y="3048120"/>
            <a:ext cx="2844720" cy="2133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5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21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Ruddy-headed Goose at Slimbridge Wildfowl and Wetlands Centre, Gloucestershire, England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Chloephaga_rubidiceps1.jpg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Arpingstone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 </a:t>
            </a:r>
            <a:endParaRPr b="0" lang="en-US" sz="1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22—Top Left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South American Fur Seals (Arctocephalus australis)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Seebaer_Beagle.jpg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Mirko Thiessen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is image is licensed under the Creative Commons 5 License. </a:t>
            </a:r>
            <a:endParaRPr b="0" lang="en-US" sz="1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22—Bottom Left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Guanaco in Torres del Paine National Park in Chile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Guanaco_09.24.jpg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Mary Frances Howard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59" name="PlaceHolder 2"/>
          <p:cNvSpPr>
            <a:spLocks noGrp="1"/>
          </p:cNvSpPr>
          <p:nvPr>
            <p:ph/>
          </p:nvPr>
        </p:nvSpPr>
        <p:spPr>
          <a:xfrm>
            <a:off x="612720" y="1600200"/>
            <a:ext cx="8153280" cy="373392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22—Top Right</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Patagonian mara </a:t>
            </a:r>
            <a:endParaRPr b="0" lang="en-US" sz="1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Gro%C3%9Fer_Mara_Ausschnitt.jpg </a:t>
            </a:r>
            <a:endParaRPr b="0" lang="en-US" sz="1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BS Thurner Hof </a:t>
            </a:r>
            <a:endParaRPr b="0" lang="en-US" sz="1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a:t>
            </a:r>
            <a:r>
              <a:rPr b="0" lang="en-US" sz="1600" spc="-1" strike="noStrike">
                <a:solidFill>
                  <a:srgbClr val="000000"/>
                </a:solidFill>
                <a:latin typeface="Tw Cen MT"/>
              </a:rPr>
              <a:t> </a:t>
            </a: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22—Bottom Right</a:t>
            </a:r>
            <a:r>
              <a:rPr b="0" lang="en-US" sz="2800" spc="-1" strike="noStrike">
                <a:solidFill>
                  <a:srgbClr val="000000"/>
                </a:solidFill>
                <a:latin typeface="Tw Cen MT"/>
              </a:rPr>
              <a:t> </a:t>
            </a:r>
            <a:endParaRPr b="0" lang="en-US" sz="2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South American Gray Fox </a:t>
            </a:r>
            <a:r>
              <a:rPr b="0" i="1" lang="en-US" sz="1400" spc="-1" strike="noStrike">
                <a:solidFill>
                  <a:srgbClr val="000000"/>
                </a:solidFill>
                <a:latin typeface="Tw Cen MT"/>
              </a:rPr>
              <a:t>(Pseudalopex culpaeus)</a:t>
            </a:r>
            <a:r>
              <a:rPr b="0" lang="en-US" sz="1400" spc="-1" strike="noStrike">
                <a:solidFill>
                  <a:srgbClr val="000000"/>
                </a:solidFill>
                <a:latin typeface="Tw Cen MT"/>
              </a:rPr>
              <a:t> </a:t>
            </a:r>
            <a:endParaRPr b="0" lang="en-US" sz="1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Pseudalopex_culpaeus.jpg </a:t>
            </a:r>
            <a:endParaRPr b="0" lang="en-US" sz="1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Exlibris (Whaldener Endo) </a:t>
            </a:r>
            <a:endParaRPr b="0" lang="en-US" sz="1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 Policy</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d a common groun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any different ideas for how to use land/resource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process of reflecting what we value and why</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r use to human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r its own sake?</a:t>
            </a:r>
            <a:endParaRPr b="0" lang="en-US" sz="2600" spc="-1" strike="noStrike">
              <a:solidFill>
                <a:srgbClr val="000000"/>
              </a:solidFill>
              <a:latin typeface="Tw Cen MT"/>
            </a:endParaRPr>
          </a:p>
        </p:txBody>
      </p:sp>
      <p:pic>
        <p:nvPicPr>
          <p:cNvPr id="370" name="" descr=""/>
          <p:cNvPicPr/>
          <p:nvPr/>
        </p:nvPicPr>
        <p:blipFill>
          <a:blip r:embed="rId1"/>
          <a:stretch/>
        </p:blipFill>
        <p:spPr>
          <a:xfrm>
            <a:off x="4495680" y="3786120"/>
            <a:ext cx="4191120" cy="279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9">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69">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 Policy</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response to specific problems and nee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3" name="" descr=""/>
          <p:cNvPicPr/>
          <p:nvPr/>
        </p:nvPicPr>
        <p:blipFill>
          <a:blip r:embed="rId1"/>
          <a:stretch/>
        </p:blipFill>
        <p:spPr>
          <a:xfrm>
            <a:off x="838080" y="2211480"/>
            <a:ext cx="3657600" cy="2436840"/>
          </a:xfrm>
          <a:prstGeom prst="rect">
            <a:avLst/>
          </a:prstGeom>
          <a:ln w="0">
            <a:noFill/>
          </a:ln>
        </p:spPr>
      </p:pic>
      <p:pic>
        <p:nvPicPr>
          <p:cNvPr id="374" name="" descr=""/>
          <p:cNvPicPr/>
          <p:nvPr/>
        </p:nvPicPr>
        <p:blipFill>
          <a:blip r:embed="rId2"/>
          <a:stretch/>
        </p:blipFill>
        <p:spPr>
          <a:xfrm>
            <a:off x="3124080" y="4343400"/>
            <a:ext cx="3505320" cy="2335320"/>
          </a:xfrm>
          <a:prstGeom prst="rect">
            <a:avLst/>
          </a:prstGeom>
          <a:ln w="0">
            <a:noFill/>
          </a:ln>
        </p:spPr>
      </p:pic>
      <p:pic>
        <p:nvPicPr>
          <p:cNvPr id="375" name="" descr=""/>
          <p:cNvPicPr/>
          <p:nvPr/>
        </p:nvPicPr>
        <p:blipFill>
          <a:blip r:embed="rId3"/>
          <a:stretch/>
        </p:blipFill>
        <p:spPr>
          <a:xfrm>
            <a:off x="5486400" y="2209680"/>
            <a:ext cx="2819520" cy="242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enefits of Policy</a:t>
            </a:r>
            <a:endParaRPr b="0" lang="en-US" sz="4400" spc="-1" strike="noStrike">
              <a:solidFill>
                <a:srgbClr val="775f55"/>
              </a:solidFill>
              <a:latin typeface="Tw Cen MT"/>
            </a:endParaRPr>
          </a:p>
        </p:txBody>
      </p:sp>
      <p:sp>
        <p:nvSpPr>
          <p:cNvPr id="377" name=""/>
          <p:cNvSpPr txBox="1"/>
          <p:nvPr/>
        </p:nvSpPr>
        <p:spPr>
          <a:xfrm>
            <a:off x="612720" y="1600200"/>
            <a:ext cx="8153280" cy="50292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vene when markets fail to protec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eate binding agreements for current and future resource use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Force’ people to look long-term/to act for the benefit of those in the futur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8" name="" descr=""/>
          <p:cNvPicPr/>
          <p:nvPr/>
        </p:nvPicPr>
        <p:blipFill>
          <a:blip r:embed="rId1"/>
          <a:stretch/>
        </p:blipFill>
        <p:spPr>
          <a:xfrm>
            <a:off x="1143000" y="2203560"/>
            <a:ext cx="2895480" cy="2063520"/>
          </a:xfrm>
          <a:prstGeom prst="rect">
            <a:avLst/>
          </a:prstGeom>
          <a:ln w="0">
            <a:noFill/>
          </a:ln>
        </p:spPr>
      </p:pic>
      <p:pic>
        <p:nvPicPr>
          <p:cNvPr id="379" name="" descr=""/>
          <p:cNvPicPr/>
          <p:nvPr/>
        </p:nvPicPr>
        <p:blipFill>
          <a:blip r:embed="rId2"/>
          <a:stretch/>
        </p:blipFill>
        <p:spPr>
          <a:xfrm>
            <a:off x="4572000" y="2381400"/>
            <a:ext cx="3809880" cy="180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licy challenges</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tical time frame vs. ecological time fram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fficult to create and enforc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formation overload                                                  and information defici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yriad of stakeholde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2" name="" descr=""/>
          <p:cNvPicPr/>
          <p:nvPr/>
        </p:nvPicPr>
        <p:blipFill>
          <a:blip r:embed="rId1"/>
          <a:stretch/>
        </p:blipFill>
        <p:spPr>
          <a:xfrm>
            <a:off x="5562720" y="2438280"/>
            <a:ext cx="144612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ultiple actors: non-government </a:t>
            </a:r>
            <a:endParaRPr b="0" lang="en-US" sz="4400" spc="-1" strike="noStrike">
              <a:solidFill>
                <a:srgbClr val="775f55"/>
              </a:solidFill>
              <a:latin typeface="Tw Cen MT"/>
            </a:endParaRPr>
          </a:p>
        </p:txBody>
      </p:sp>
      <p:pic>
        <p:nvPicPr>
          <p:cNvPr id="384" name="Diagram 6" descr=""/>
          <p:cNvPicPr/>
          <p:nvPr/>
        </p:nvPicPr>
        <p:blipFill>
          <a:blip r:embed="rId1"/>
          <a:stretch/>
        </p:blipFill>
        <p:spPr>
          <a:xfrm>
            <a:off x="146160" y="1060560"/>
            <a:ext cx="9156600" cy="5499000"/>
          </a:xfrm>
          <a:prstGeom prst="rect">
            <a:avLst/>
          </a:prstGeom>
          <a:ln w="0">
            <a:noFill/>
          </a:ln>
        </p:spPr>
      </p:pic>
      <p:sp>
        <p:nvSpPr>
          <p:cNvPr id="385" name="Explosion 1 3"/>
          <p:cNvSpPr/>
          <p:nvPr/>
        </p:nvSpPr>
        <p:spPr>
          <a:xfrm>
            <a:off x="1523880" y="5334120"/>
            <a:ext cx="2743200" cy="1295280"/>
          </a:xfrm>
          <a:prstGeom prst="irregularSeal1">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w Cen MT"/>
              </a:rPr>
              <a:t>Agenda</a:t>
            </a:r>
            <a:endParaRPr b="0" lang="en-US" sz="3200" spc="-1" strike="noStrike">
              <a:solidFill>
                <a:srgbClr val="000000"/>
              </a:solidFill>
              <a:latin typeface="Arial"/>
            </a:endParaRPr>
          </a:p>
        </p:txBody>
      </p:sp>
      <p:sp>
        <p:nvSpPr>
          <p:cNvPr id="386" name="Explosion 1 4"/>
          <p:cNvSpPr/>
          <p:nvPr/>
        </p:nvSpPr>
        <p:spPr>
          <a:xfrm rot="219600">
            <a:off x="5311440" y="4865400"/>
            <a:ext cx="3300480" cy="1711080"/>
          </a:xfrm>
          <a:prstGeom prst="irregularSeal1">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w Cen MT"/>
              </a:rPr>
              <a:t>Formu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385"/>
                                        </p:tgtEl>
                                        <p:attrNameLst>
                                          <p:attrName>style.visibility</p:attrName>
                                        </p:attrNameLst>
                                      </p:cBhvr>
                                      <p:to>
                                        <p:strVal val="visible"/>
                                      </p:to>
                                    </p:set>
                                    <p:animEffect filter="diamond(in)" transition="in">
                                      <p:cBhvr additive="repl">
                                        <p:cTn id="17" dur="2000"/>
                                        <p:tgtEl>
                                          <p:spTgt spid="3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386"/>
                                        </p:tgtEl>
                                        <p:attrNameLst>
                                          <p:attrName>style.visibility</p:attrName>
                                        </p:attrNameLst>
                                      </p:cBhvr>
                                      <p:to>
                                        <p:strVal val="visible"/>
                                      </p:to>
                                    </p:set>
                                    <p:animEffect filter="diamond(in)" transition="in">
                                      <p:cBhvr additive="repl">
                                        <p:cTn id="22"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ultiple actors: government</a:t>
            </a:r>
            <a:endParaRPr b="0" lang="en-US" sz="4400" spc="-1" strike="noStrike">
              <a:solidFill>
                <a:srgbClr val="775f55"/>
              </a:solidFill>
              <a:latin typeface="Tw Cen MT"/>
            </a:endParaRPr>
          </a:p>
        </p:txBody>
      </p:sp>
      <p:pic>
        <p:nvPicPr>
          <p:cNvPr id="388" name="Content Placeholder 3" descr=""/>
          <p:cNvPicPr/>
          <p:nvPr/>
        </p:nvPicPr>
        <p:blipFill>
          <a:blip r:embed="rId1"/>
          <a:stretch/>
        </p:blipFill>
        <p:spPr>
          <a:xfrm>
            <a:off x="573120" y="1596960"/>
            <a:ext cx="8242200" cy="4505400"/>
          </a:xfrm>
          <a:prstGeom prst="rect">
            <a:avLst/>
          </a:prstGeom>
          <a:ln w="0">
            <a:noFill/>
          </a:ln>
        </p:spPr>
      </p:pic>
      <p:sp>
        <p:nvSpPr>
          <p:cNvPr id="389" name="Explosion 1 4"/>
          <p:cNvSpPr/>
          <p:nvPr/>
        </p:nvSpPr>
        <p:spPr>
          <a:xfrm>
            <a:off x="0" y="990720"/>
            <a:ext cx="2590920" cy="990360"/>
          </a:xfrm>
          <a:prstGeom prst="irregularSeal1">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w Cen MT"/>
              </a:rPr>
              <a:t>Implement</a:t>
            </a:r>
            <a:endParaRPr b="0" lang="en-US" sz="2000" spc="-1" strike="noStrike">
              <a:solidFill>
                <a:srgbClr val="000000"/>
              </a:solidFill>
              <a:latin typeface="Arial"/>
            </a:endParaRPr>
          </a:p>
        </p:txBody>
      </p:sp>
      <p:sp>
        <p:nvSpPr>
          <p:cNvPr id="390" name="Explosion 1 5"/>
          <p:cNvSpPr/>
          <p:nvPr/>
        </p:nvSpPr>
        <p:spPr>
          <a:xfrm>
            <a:off x="6781680" y="838080"/>
            <a:ext cx="2133720" cy="762120"/>
          </a:xfrm>
          <a:prstGeom prst="irregularSeal1">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w Cen MT"/>
              </a:rPr>
              <a:t>Budget</a:t>
            </a:r>
            <a:endParaRPr b="0" lang="en-US" sz="2800" spc="-1" strike="noStrike">
              <a:solidFill>
                <a:srgbClr val="000000"/>
              </a:solidFill>
              <a:latin typeface="Arial"/>
            </a:endParaRPr>
          </a:p>
        </p:txBody>
      </p:sp>
      <p:sp>
        <p:nvSpPr>
          <p:cNvPr id="391" name="Explosion 1 6"/>
          <p:cNvSpPr/>
          <p:nvPr/>
        </p:nvSpPr>
        <p:spPr>
          <a:xfrm>
            <a:off x="914400" y="5638680"/>
            <a:ext cx="2514600" cy="1219320"/>
          </a:xfrm>
          <a:prstGeom prst="irregularSeal1">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w Cen MT"/>
              </a:rPr>
              <a:t>Evaluate</a:t>
            </a:r>
            <a:endParaRPr b="0" lang="en-US" sz="2800" spc="-1" strike="noStrike">
              <a:solidFill>
                <a:srgbClr val="000000"/>
              </a:solidFill>
              <a:latin typeface="Arial"/>
            </a:endParaRPr>
          </a:p>
        </p:txBody>
      </p:sp>
      <p:sp>
        <p:nvSpPr>
          <p:cNvPr id="392" name="Rectangle 7"/>
          <p:cNvSpPr/>
          <p:nvPr/>
        </p:nvSpPr>
        <p:spPr>
          <a:xfrm>
            <a:off x="4114800" y="60958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levels often regulated by higher levels of regulation/la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89"/>
                                        </p:tgtEl>
                                        <p:attrNameLst>
                                          <p:attrName>style.visibility</p:attrName>
                                        </p:attrNameLst>
                                      </p:cBhvr>
                                      <p:to>
                                        <p:strVal val="visible"/>
                                      </p:to>
                                    </p:set>
                                    <p:animEffect filter="diamond(in)" transition="in">
                                      <p:cBhvr additive="repl">
                                        <p:cTn id="29" dur="2000"/>
                                        <p:tgtEl>
                                          <p:spTgt spid="389"/>
                                        </p:tgtEl>
                                      </p:cBhvr>
                                    </p:animEffect>
                                  </p:childTnLst>
                                </p:cTn>
                              </p:par>
                              <p:par>
                                <p:cTn id="30" nodeType="withEffect" fill="hold" presetClass="entr" presetID="8" presetSubtype="16">
                                  <p:stCondLst>
                                    <p:cond delay="0"/>
                                  </p:stCondLst>
                                  <p:childTnLst>
                                    <p:set>
                                      <p:cBhvr>
                                        <p:cTn id="31" dur="1" fill="hold">
                                          <p:stCondLst>
                                            <p:cond delay="0"/>
                                          </p:stCondLst>
                                        </p:cTn>
                                        <p:tgtEl>
                                          <p:spTgt spid="390"/>
                                        </p:tgtEl>
                                        <p:attrNameLst>
                                          <p:attrName>style.visibility</p:attrName>
                                        </p:attrNameLst>
                                      </p:cBhvr>
                                      <p:to>
                                        <p:strVal val="visible"/>
                                      </p:to>
                                    </p:set>
                                    <p:animEffect filter="diamond(in)" transition="in">
                                      <p:cBhvr additive="repl">
                                        <p:cTn id="32" dur="2000"/>
                                        <p:tgtEl>
                                          <p:spTgt spid="390"/>
                                        </p:tgtEl>
                                      </p:cBhvr>
                                    </p:animEffect>
                                  </p:childTnLst>
                                </p:cTn>
                              </p:par>
                              <p:par>
                                <p:cTn id="33" nodeType="withEffect" fill="hold" presetClass="entr" presetID="8" presetSubtype="16">
                                  <p:stCondLst>
                                    <p:cond delay="0"/>
                                  </p:stCondLst>
                                  <p:childTnLst>
                                    <p:set>
                                      <p:cBhvr>
                                        <p:cTn id="34" dur="1" fill="hold">
                                          <p:stCondLst>
                                            <p:cond delay="0"/>
                                          </p:stCondLst>
                                        </p:cTn>
                                        <p:tgtEl>
                                          <p:spTgt spid="391"/>
                                        </p:tgtEl>
                                        <p:attrNameLst>
                                          <p:attrName>style.visibility</p:attrName>
                                        </p:attrNameLst>
                                      </p:cBhvr>
                                      <p:to>
                                        <p:strVal val="visible"/>
                                      </p:to>
                                    </p:set>
                                    <p:animEffect filter="diamond(in)" transition="in">
                                      <p:cBhvr additive="repl">
                                        <p:cTn id="35"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JQIV</dc:creator>
  <dc:description/>
  <dc:language>en-US</dc:language>
  <cp:lastModifiedBy>UB</cp:lastModifiedBy>
  <dcterms:modified xsi:type="dcterms:W3CDTF">2010-11-12T19:54:09Z</dcterms:modified>
  <cp:revision>99</cp:revision>
  <dc:subject/>
  <dc:title>Conservation Biolgoy and Public Policy</dc:title>
</cp:coreProperties>
</file>